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9193-735D-4E92-8B67-458C4FE19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CDF4-44EC-40B6-B64E-B77408CA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B986-88EB-44A2-BA0F-2A9A0621F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CBAA-9EE8-43B2-8D98-89B9BD96C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9612-758C-4EB4-A470-8A1E46F18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E79C-C40E-464D-BC8B-38764EFA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6BAFF-45A1-4867-9C4A-0EE8B5D9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5A3A-D9C7-4D3A-9449-DAD71650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6A6E-E9CE-4C3C-A0A3-F0F1CB66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C6A37-FE9E-4930-ABA1-D6B939EB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9644C-902B-49C6-A19C-AF886973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E2E0-04D4-4B64-BE18-C6E27A8B0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6502-F79B-4D07-8844-7A2C2A80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948F-7A24-40F9-93CA-19FA7C56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1002-FE1C-449C-85FB-0EA8A8AE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4ABD7-C346-4950-89C2-E984428D6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99D6-6175-4CA6-A63C-CD69BECE4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7F86-9108-4066-9547-6726E1F5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D8F8-3DAD-40CE-81F1-3FF49076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5046-9C07-4E80-95B6-537D1A89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7DEB-8B09-4E3B-B8F2-F9DBF920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262E-1FC8-4970-B3DA-AEFACC2B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EB16-85DC-44EA-A03A-B5D8636A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7A66-B2E9-4392-A92E-5095EA45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BC0C-3DF6-4FD9-AA85-9F9FC5954146}" type="slidenum"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1FBA-8C7B-47F4-BC5F-D89EA0C58D9B}" type="slidenum"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296280" cy="5638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rot="16200000">
            <a:off x="4038480" y="-4038480"/>
            <a:ext cx="1219320" cy="92962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LB" sz="2800" spc="-1" strike="noStrike">
                <a:solidFill>
                  <a:srgbClr val="ffffff"/>
                </a:solidFill>
                <a:latin typeface="Arial"/>
                <a:cs typeface="Arial"/>
              </a:rPr>
              <a:t>باب الصب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Arial"/>
              </a:rPr>
              <a:t>وَالَّذِينَ صَبَرُوا ابْتِغَاءَ وَجْهِ رَبِّهِم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60958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إضغط الماوس لبدء العرض</a:t>
            </a:r>
            <a:r>
              <a:rPr b="1" lang="ar-LB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64450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لظهور الاحتمالات إضغط الماوس بعد إنتهاء الآية             و لمعرفة الاحتمال الصحيح إضغط الماوس مرة ثا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76212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سَنَسِمُه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عَلَى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خُرْطُوم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629400" y="3276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سَنَسِمُه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49320" y="3276720"/>
            <a:ext cx="164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نعلِّم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276720"/>
            <a:ext cx="1474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نضرب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65600" y="3276720"/>
            <a:ext cx="1706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نشدّه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05720" y="4267080"/>
            <a:ext cx="15318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خُرْطُوم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00600" y="4267080"/>
            <a:ext cx="1596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ذراع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19520" y="4267080"/>
            <a:ext cx="1663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جبين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14400" y="4267080"/>
            <a:ext cx="1590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ن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4419720" y="2819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219320" y="50292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سنضع له علامة على أنفه يراد بها زيادة في إذلاله وإهانته بذلَّة ظاهرة يعرفه بها كل من رآه ونظر إلي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8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8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8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8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8" dur="4022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500"/>
                            </p:stCondLst>
                            <p:childTnLst>
                              <p:par>
                                <p:cTn id="5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98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80"/>
                            </p:stCondLst>
                            <p:childTnLst>
                              <p:par>
                                <p:cTn id="6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780"/>
                            </p:stCondLst>
                            <p:childTnLst>
                              <p:par>
                                <p:cTn id="6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28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780"/>
                            </p:stCondLst>
                            <p:childTnLst>
                              <p:par>
                                <p:cTn id="6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762120" y="167652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إِنَّا بَلَوْنَاهُمْ كَمَا بَلَوْنَا أَصْحَابَ الْجَنَّةِ إِذْ أَقْسَمُو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َيَصْرِمُنَّهَ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مُصْبِح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60000" y="3510000"/>
            <a:ext cx="1666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َيَصْرِمُنَّهَ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48120" y="3510000"/>
            <a:ext cx="148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قطعنَّ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3505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بعدنَّها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76120" y="3505320"/>
            <a:ext cx="1495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ليخربنَّ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54160" y="4648320"/>
            <a:ext cx="41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صرم : المراد به قطف الثمار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0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2" dur="14942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8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000"/>
                            </p:stCondLst>
                            <p:childTnLst>
                              <p:par>
                                <p:cTn id="6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500"/>
                            </p:stCondLst>
                            <p:childTnLst>
                              <p:par>
                                <p:cTn id="6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838080" y="15238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طَافَ عَلَيْ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طَائِفٌ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مِنْ رَبِّكَ وَهُمْ نَائِم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                      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( القلم :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9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0" y="35053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طَائِف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00400" y="3510000"/>
            <a:ext cx="1535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ل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05520" y="35053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يضان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35053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زائ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3657600" y="2590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6" dur="10554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000"/>
                            </p:stCondLst>
                            <p:childTnLst>
                              <p:par>
                                <p:cTn id="7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609480" y="16765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أَصْبَحَتْ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كَالصَّرِيم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629400" y="3048120"/>
            <a:ext cx="1600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الصَّرِيم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752480" y="4800600"/>
            <a:ext cx="4192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شجر المقطوع ثمر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752480" y="3886200"/>
            <a:ext cx="4189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صحر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3048120"/>
            <a:ext cx="4162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أرض المحصودة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4191120" y="2286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9" dur="3501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00"/>
                            </p:stCondLst>
                            <p:childTnLst>
                              <p:par>
                                <p:cTn id="7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5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000"/>
                            </p:stCondLst>
                            <p:childTnLst>
                              <p:par>
                                <p:cTn id="7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2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500"/>
                            </p:stCondLst>
                            <p:childTnLst>
                              <p:par>
                                <p:cTn id="7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53352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غَدَوْا عَلَى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َرْد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َادِر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86600" y="358128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َرْد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257800" y="3586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ض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3581280"/>
            <a:ext cx="1557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ه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76360" y="3581280"/>
            <a:ext cx="1571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0960" y="4724280"/>
            <a:ext cx="84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معنى الحرد أنهم صمموا في أنفسهم الإمتناع عن العطاء للمساكي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0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8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5" dur="5120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1000"/>
                            </p:stCondLst>
                            <p:childTnLst>
                              <p:par>
                                <p:cTn id="8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1500"/>
                            </p:stCondLst>
                            <p:childTnLst>
                              <p:par>
                                <p:cTn id="81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23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4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5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28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9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0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33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4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5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60"/>
                            </p:stCondLst>
                            <p:childTnLst>
                              <p:par>
                                <p:cTn id="8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3716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اصْبِرْ لِحُكْمِ رَبِّكَ وَلا تَكُنْ كَصَاحِبِ الْحُوتِ إِذْ نَادَى وَهُو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كْظُوم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781680" y="3586320"/>
            <a:ext cx="14479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َكْظُوم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14560" y="3554280"/>
            <a:ext cx="1988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جرع غيظ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895480" y="355428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همو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3554280"/>
            <a:ext cx="1898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ائ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85520" y="4840200"/>
            <a:ext cx="63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مكظوم أي مختنق بالغم حيث لا يجد لغيظه شفاء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0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9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1" dur="11390" fill="hold"/>
                                        <p:tgtEl>
                                          <p:spTgt spid="2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500"/>
                            </p:stCondLst>
                            <p:childTnLst>
                              <p:par>
                                <p:cTn id="8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500"/>
                            </p:stCondLst>
                            <p:childTnLst>
                              <p:par>
                                <p:cTn id="873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5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89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0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1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94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5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6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99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0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1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04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5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6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240"/>
                            </p:stCondLst>
                            <p:childTnLst>
                              <p:par>
                                <p:cTn id="9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62120" y="16765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إِنْ يَكَادُ الَّذِينَ كَفَرُوا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لَيُزْلِقُونَك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ِأَبْصَارِهِمْ لَمَّا سَمِعُوا الذِّكْرَ وَيَقُولُونَ إِنَّهُ لَمَجْنُون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78168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الزلق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10552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زل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00400" y="36622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غ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657600"/>
            <a:ext cx="1576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عداو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33720" y="4611600"/>
            <a:ext cx="556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عنى :أي كادوا أن يصرعوك ويهلكوك بأبصاره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0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2" dur="17711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500"/>
                            </p:stCondLst>
                            <p:childTnLst>
                              <p:par>
                                <p:cTn id="9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1000"/>
                            </p:stCondLst>
                            <p:childTnLst>
                              <p:par>
                                <p:cTn id="9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1500"/>
                            </p:stCondLst>
                            <p:childTnLst>
                              <p:par>
                                <p:cTn id="9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51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2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3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56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7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8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61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2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3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320"/>
                            </p:stCondLst>
                            <p:childTnLst>
                              <p:par>
                                <p:cTn id="9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685800" y="19810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حَاقَّة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934320" y="3505320"/>
            <a:ext cx="1339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حَاقَّة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146400" y="3505320"/>
            <a:ext cx="1654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ثابت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94360" y="3505320"/>
            <a:ext cx="1611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صي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179360" y="3505320"/>
            <a:ext cx="1716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زلز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4800600"/>
            <a:ext cx="761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حاقة : سميت القيامة كذلك لثبوتها ثبوتاً لا مرد له ولا ريب فيه من حق الشيء بمعنى ثبت وتقرر تقرراً واقعياً 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4267080" y="2971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0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7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9" dur="4494" fill="hold"/>
                                        <p:tgtEl>
                                          <p:spTgt spid="2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500"/>
                            </p:stCondLst>
                            <p:childTnLst>
                              <p:par>
                                <p:cTn id="9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000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1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2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005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6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7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320"/>
                            </p:stCondLst>
                            <p:childTnLst>
                              <p:par>
                                <p:cTn id="10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304920" y="17524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كَذَّبَتْ ثَمُودُ وَعَادٌ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ِالْقَارِعَة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934320" y="3276720"/>
            <a:ext cx="1218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القرع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029200" y="32608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د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090960" y="3276720"/>
            <a:ext cx="163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و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95280" y="3260880"/>
            <a:ext cx="1508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خو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9480" y="411480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سميت بالقارعة لأنها تقرع وتدك السماوات والأرض بتبديلها والجبا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بتسييرها والشمس بتكويرها والقمر بخسفها والكواكب بنثره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والأشياء كلها بقهره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0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9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1" dur="5904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2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609480" y="167652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سَخَّرَهَا عَلَيْهِمْ سَبْعَ لَيَالٍ وَثَمَانِيَةَ أَيَّام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ُسُوما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تَرَى الْقَوْمَ فِيهَا صَرْعَى كَأَنَّهُم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َعْجَازُ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نَخْلٍ خَاوِيَة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781680" y="3581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ُسُوم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44956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عَجزُ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724280" y="358128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تال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43200" y="358128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قط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38080" y="3581280"/>
            <a:ext cx="1746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خرّ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743200" y="4495680"/>
            <a:ext cx="1817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آخر الشي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724280" y="449568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ر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38080" y="4495680"/>
            <a:ext cx="1773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ص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838080" y="51814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عنى انه شبَّه أجسادهم بجذوع النخل المقلوعة من أساسها والفارغة من قلبها الملقاة على الأرض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fill="hold">
                      <p:stCondLst>
                        <p:cond delay="0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0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2" dur="20637" fill="hold"/>
                                        <p:tgtEl>
                                          <p:spTgt spid="2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500"/>
                            </p:stCondLst>
                            <p:childTnLst>
                              <p:par>
                                <p:cTn id="10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500"/>
                            </p:stCondLst>
                            <p:childTnLst>
                              <p:par>
                                <p:cTn id="10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09480" y="12952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ذَا أُلْقُوا فِيهَا سَمِعُوا لَ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شَهِيقا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هِي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فُور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لك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86600" y="2824200"/>
            <a:ext cx="12193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شَهِيق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86600" y="472428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فُور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06760" y="2824200"/>
            <a:ext cx="19652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وت الحم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37240" y="2824200"/>
            <a:ext cx="21207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وت أخذ النف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2824200"/>
            <a:ext cx="1719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وتاً عالي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472428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غل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00600" y="4724280"/>
            <a:ext cx="2057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قذ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4724280"/>
            <a:ext cx="190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تقلَّ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37339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تجذبهم إلى داخلها كما يُجذَب الهواء بالشهيق إلى داخل الصد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9718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8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838080" y="198108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َعَصَوْا رَسُولَ رَبِّهِمْ فَأَخَذَهُمْ أَخْذَة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رَابِيَة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781680" y="3581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رَابِيَة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295280" y="3581280"/>
            <a:ext cx="1433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زائد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581280"/>
            <a:ext cx="148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تف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3581280"/>
            <a:ext cx="1438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ري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46560" y="4800600"/>
            <a:ext cx="51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أخذة رابية  والمراد بها العقوبة الشديد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fill="hold">
                      <p:stCondLst>
                        <p:cond delay="0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8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8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8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8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1" dur="8098" fill="hold"/>
                                        <p:tgtEl>
                                          <p:spTgt spid="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1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6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990720" y="182880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انْشَقَّتِ السَّمَاءُ فَهِيَ يَوْمَئِذ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هِيَة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629400" y="3733920"/>
            <a:ext cx="1379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هِي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73392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عي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800600" y="3733920"/>
            <a:ext cx="1616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اق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66680" y="37386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في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561320" y="515628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تعبير عن تلاشي النظام السماوي وفقدان تماسك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fill="hold">
                      <p:stCondLst>
                        <p:cond delay="0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7" dur="8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8" dur="8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8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8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4" dur="9196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1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0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1219320" y="182880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أَمَّا مَنْ أُوتِيَ كِتَابَهُ بِيَمِينِهِ فَيَقُول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هَاؤُم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اقْرَأوا كِتَابِيَهْ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0" y="364644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هَاؤُم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257800" y="363060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اك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17840" y="3630600"/>
            <a:ext cx="1459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تعالوا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23880" y="3630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ات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03920" y="4648320"/>
            <a:ext cx="805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اؤم : بمعنى هاكم وهي أمر للجماعة بلغة أهل الحجا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0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4" dur="13532" fill="hold"/>
                                        <p:tgtEl>
                                          <p:spTgt spid="3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500"/>
                            </p:stCondLst>
                            <p:childTnLst>
                              <p:par>
                                <p:cTn id="12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2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1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55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6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7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280"/>
                            </p:stCondLst>
                            <p:childTnLst>
                              <p:par>
                                <p:cTn id="1260" nodeType="after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61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2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3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fill="hold">
                            <p:stCondLst>
                              <p:cond delay="520"/>
                            </p:stCondLst>
                            <p:childTnLst>
                              <p:par>
                                <p:cTn id="1266" nodeType="after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67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8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9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600"/>
                            </p:stCondLst>
                            <p:childTnLst>
                              <p:par>
                                <p:cTn id="1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533520" y="1828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ا طَعَامٌ إِلَّا مِن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غِسْلِين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984720" y="3505320"/>
            <a:ext cx="1375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غِسْلِين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50160" y="3510000"/>
            <a:ext cx="2227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سالة الجسد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124080" y="350532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مو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181480" y="3505320"/>
            <a:ext cx="1492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8400" y="4800600"/>
            <a:ext cx="88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غسلين : المراد به ما يسيل من أبدان أهل النار من قيح  وصديد وغير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fill="hold">
                      <p:stCondLst>
                        <p:cond delay="0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1" dur="8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2" dur="8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8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8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8" dur="5225" fill="hold"/>
                                        <p:tgtEl>
                                          <p:spTgt spid="3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317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8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9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322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3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4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200"/>
                            </p:stCondLst>
                            <p:childTnLst>
                              <p:par>
                                <p:cTn id="1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85800" y="19810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ثُمَّ لَقَطَعْنَا مِنْهُ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الْوَت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0" y="350532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وَتِين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695320" y="3510000"/>
            <a:ext cx="2286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رايين الجس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952880" y="3505320"/>
            <a:ext cx="16765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بل الص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90720" y="3505320"/>
            <a:ext cx="1654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رق القل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fill="hold">
                      <p:stCondLst>
                        <p:cond delay="0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8" dur="5225" fill="hold"/>
                                        <p:tgtEl>
                                          <p:spTgt spid="3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3" dur="8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4" dur="8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8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8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53352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تَكُونُ الْجِبَال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الْعِهْن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78168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الْعِهْن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124080" y="36576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صو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952880" y="3662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ط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37160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حر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1" dur="indefinite" restart="never" nodeType="tmRoot">
          <p:childTnLst>
            <p:seq>
              <p:cTn id="1372" dur="indefinite" nodeType="mainSeq">
                <p:childTnLst>
                  <p:par>
                    <p:cTn id="1373" fill="hold">
                      <p:stCondLst>
                        <p:cond delay="0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9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1" dur="4494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8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404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5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6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409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0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1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457200" y="16002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نَزَّاعَة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ِلشَّو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705720" y="35053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ِلشَّوَى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800600" y="35053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لأطرا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048120" y="3489480"/>
            <a:ext cx="1496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للجلد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295280" y="34894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لعي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97960" y="4800600"/>
            <a:ext cx="825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للشوى : أي صفتها إحراق الأطراف من  الأيدي والأرجل واقتلاعه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191120" y="2438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3" dur="indefinite" restart="never" nodeType="tmRoot">
          <p:childTnLst>
            <p:seq>
              <p:cTn id="1414" dur="indefinite" nodeType="mainSeq">
                <p:childTnLst>
                  <p:par>
                    <p:cTn id="1415" fill="hold">
                      <p:stCondLst>
                        <p:cond delay="0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1" dur="3762" fill="hold"/>
                                        <p:tgtEl>
                                          <p:spTgt spid="3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500"/>
                            </p:stCondLst>
                            <p:childTnLst>
                              <p:par>
                                <p:cTn id="14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6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41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9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1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4" dur="1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1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6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9" dur="1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1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61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914400" y="17524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جَمَع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أَوْع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78168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أَوْعَى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010880" y="3586320"/>
            <a:ext cx="1747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عله بوع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876920" y="3581280"/>
            <a:ext cx="1608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أسر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971800" y="3581280"/>
            <a:ext cx="1549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تصد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914400" y="5105520"/>
            <a:ext cx="743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راد أي الذي جمع المال وأمسكه في وعائه ولم ينفق منه للسائل والمحرو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3733920" y="2590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7" dur="indefinite" restart="never" nodeType="tmRoot">
          <p:childTnLst>
            <p:seq>
              <p:cTn id="1468" dur="indefinite" nodeType="mainSeq">
                <p:childTnLst>
                  <p:par>
                    <p:cTn id="1469" fill="hold">
                      <p:stCondLst>
                        <p:cond delay="0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9" dur="2822" fill="hold"/>
                                        <p:tgtEl>
                                          <p:spTgt spid="3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500"/>
                            </p:stCondLst>
                            <p:childTnLst>
                              <p:par>
                                <p:cTn id="14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2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06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7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8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11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2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3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fill="hold">
                            <p:stCondLst>
                              <p:cond delay="240"/>
                            </p:stCondLst>
                            <p:childTnLst>
                              <p:par>
                                <p:cTn id="1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533520" y="18288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ذَا مَسَّهُ الشَّرّ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جَزُوع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010640" y="3505320"/>
            <a:ext cx="1326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جَزُوع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819520" y="350532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ير صب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029200" y="3505320"/>
            <a:ext cx="1839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ير حري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62120" y="3505320"/>
            <a:ext cx="1790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ير خائ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9" dur="indefinite" restart="never" nodeType="tmRoot">
          <p:childTnLst>
            <p:seq>
              <p:cTn id="1520" dur="indefinite" nodeType="mainSeq">
                <p:childTnLst>
                  <p:par>
                    <p:cTn id="1521" fill="hold">
                      <p:stCondLst>
                        <p:cond delay="0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7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9" dur="4650" fill="hold"/>
                                        <p:tgtEl>
                                          <p:spTgt spid="3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6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3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7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61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2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3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66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7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8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71" dur="8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2" dur="8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3" dur="8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76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7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8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533520" y="19810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َنِ الْيَمِينِ وَعَنِ الشِّمَال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ِز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93432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ِزِين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85280" y="3657600"/>
            <a:ext cx="25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ماعات متفرق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00600" y="3657600"/>
            <a:ext cx="1981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الس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819520" y="365760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حلق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0" dur="indefinite" restart="never" nodeType="tmRoot">
          <p:childTnLst>
            <p:seq>
              <p:cTn id="1581" dur="indefinite" nodeType="mainSeq">
                <p:childTnLst>
                  <p:par>
                    <p:cTn id="1582" fill="hold">
                      <p:stCondLst>
                        <p:cond delay="0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6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8" dur="5382" fill="hold"/>
                                        <p:tgtEl>
                                          <p:spTgt spid="3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500"/>
                            </p:stCondLst>
                            <p:childTnLst>
                              <p:par>
                                <p:cTn id="15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1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3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5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8" dur="10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10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20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2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38080" y="144792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تَكَاد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مَيَّز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مِنَ الْغَيْظِ كُلَّمَا أُلْقِيَ فِيهَا فَوْجٌ سَأَلَهُمْ خَزَنَتُهَا أَلَمْ يَأْتِكُمْ نَذِير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لك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34320" y="3733920"/>
            <a:ext cx="1334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مَيَّز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3733920"/>
            <a:ext cx="1666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تلاش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952880" y="3733920"/>
            <a:ext cx="1650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صر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3733920"/>
            <a:ext cx="1550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شتع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17085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762120" y="14479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يَوْمَ يَخْرُجُونَ مِن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أَجْدَاث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سِرَاعاً كَأَنَّهُمْ إِلَى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ُصُب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ُوفِض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934320" y="2971800"/>
            <a:ext cx="13716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أَجْدَاث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30280" y="4572000"/>
            <a:ext cx="1581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ُوفِضُون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43000" y="29718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ب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105520" y="29718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اكف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124080" y="29718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تراب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029200" y="45720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سرع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45720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ذهبون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143000" y="45720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رسل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934320" y="38098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ُصُب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105520" y="3809880"/>
            <a:ext cx="1554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لام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124080" y="38098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ماثيل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143000" y="38098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قاب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0400" y="5410080"/>
            <a:ext cx="89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نصب : وهي ما ينصب علامة في الطريق يقصده السائرون للإهتداء ب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34290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5" dur="indefinite" restart="never" nodeType="tmRoot">
          <p:childTnLst>
            <p:seq>
              <p:cTn id="1626" dur="indefinite" nodeType="mainSeq">
                <p:childTnLst>
                  <p:par>
                    <p:cTn id="1627" fill="hold">
                      <p:stCondLst>
                        <p:cond delay="0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1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3" dur="1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5" dur="12644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500"/>
                            </p:stCondLst>
                            <p:childTnLst>
                              <p:par>
                                <p:cTn id="16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3" dur="8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4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62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3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4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67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8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9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fill="hold">
                            <p:stCondLst>
                              <p:cond delay="320"/>
                            </p:stCondLst>
                            <p:childTnLst>
                              <p:par>
                                <p:cTn id="167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76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7" fill="hold">
                            <p:stCondLst>
                              <p:cond delay="1320"/>
                            </p:stCondLst>
                            <p:childTnLst>
                              <p:par>
                                <p:cTn id="16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1820"/>
                            </p:stCondLst>
                            <p:childTnLst>
                              <p:par>
                                <p:cTn id="16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4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7" fill="hold">
                            <p:stCondLst>
                              <p:cond delay="2820"/>
                            </p:stCondLst>
                            <p:childTnLst>
                              <p:par>
                                <p:cTn id="16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fill="hold">
                            <p:stCondLst>
                              <p:cond delay="3320"/>
                            </p:stCondLst>
                            <p:childTnLst>
                              <p:par>
                                <p:cTn id="16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4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8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0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3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5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8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10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3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1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3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6" dur="1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1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8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0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5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762120" y="175248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إِنِّي كُلَّمَا دَعَوْتُهُمْ لِتَغْفِرَ لَهُمْ جَعَلُوا أَصَابِعَهُمْ فِي آذَانِهِم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سْتَغْشَوْ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ثِيَابَهُمْ وَأَصَرُّوا وَاسْتَكْبَرُوا اسْتِكْبَا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نوح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671160" y="3657600"/>
            <a:ext cx="1823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سْتَغْشَوْ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952880" y="3657600"/>
            <a:ext cx="1540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غط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017880" y="3657600"/>
            <a:ext cx="1554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ير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066680" y="36576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دل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-21240" y="4800600"/>
            <a:ext cx="883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ستغشوا أي غطوا رؤوسهم ووجوههم بثيابهم لئلا يروا أو يسمعوا وه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كناية عن التنفر وعدم الإستماع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7" dur="indefinite" restart="never" nodeType="tmRoot">
          <p:childTnLst>
            <p:seq>
              <p:cTn id="1758" dur="indefinite" nodeType="mainSeq">
                <p:childTnLst>
                  <p:par>
                    <p:cTn id="1759" fill="hold">
                      <p:stCondLst>
                        <p:cond delay="0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6" dur="29414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8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5" nodeType="after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4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8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02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3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4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07" dur="8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8" dur="8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9" dur="8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12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3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4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6" fill="hold">
                            <p:stCondLst>
                              <p:cond delay="240"/>
                            </p:stCondLst>
                            <p:childTnLst>
                              <p:par>
                                <p:cTn id="18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685800" y="160020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رَبِّ اغْفِرْ لِي وَلِوَالِدَيَّ وَلِمَنْ دَخَلَ بَيْتِيَ مُؤْمِناً وَلِلْمُؤْمِنِينَ وَالْمُؤْمِنَاتِ وَلا تَزِدِ الظَّالِمِينَ إِلّ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بَار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نوح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85800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بَار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029200" y="35812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لاك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048120" y="3581280"/>
            <a:ext cx="163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ذا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219320" y="35863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ل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0" dur="indefinite" restart="never" nodeType="tmRoot">
          <p:childTnLst>
            <p:seq>
              <p:cTn id="1821" dur="indefinite" nodeType="mainSeq">
                <p:childTnLst>
                  <p:par>
                    <p:cTn id="1822" fill="hold">
                      <p:stCondLst>
                        <p:cond delay="0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28" dur="10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0" dur="21630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9" fill="hold">
                            <p:stCondLst>
                              <p:cond delay="500"/>
                            </p:stCondLst>
                            <p:childTnLst>
                              <p:par>
                                <p:cTn id="18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6" nodeType="after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65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6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7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70" dur="8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1" dur="8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2" dur="8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75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6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7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685800" y="167652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هُ تَعَالَى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جَدّ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رَبِّنَا مَا اتَّخَذَ صَاحِبَةً وَلا وَلَد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010280" y="352116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جَدُّ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600200" y="35053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ظم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505320" y="35053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35053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ع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4419720" y="2819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9" dur="indefinite" restart="never" nodeType="tmRoot">
          <p:childTnLst>
            <p:seq>
              <p:cTn id="1880" dur="indefinite" nodeType="mainSeq">
                <p:childTnLst>
                  <p:par>
                    <p:cTn id="1881" fill="hold">
                      <p:stCondLst>
                        <p:cond delay="0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5" dur="8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6" dur="8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8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8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2" dur="10188" fill="hold"/>
                                        <p:tgtEl>
                                          <p:spTgt spid="4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1066680" y="152388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هُ كَانَ رِجَالٌ مِنَ الْأِنْسِ يَعُوذُونَ بِرِجَالٍ مِنَ الْجِنِّ فَزَادُوهُمْ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رَهَق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85800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رَهَق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828800" y="358128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إث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505320" y="35812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ق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18148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ذاب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7" dur="indefinite" restart="never" nodeType="tmRoot">
          <p:childTnLst>
            <p:seq>
              <p:cTn id="1918" dur="indefinite" nodeType="mainSeq">
                <p:childTnLst>
                  <p:par>
                    <p:cTn id="1919" fill="hold">
                      <p:stCondLst>
                        <p:cond delay="0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9" dur="14734" fill="hold"/>
                                        <p:tgtEl>
                                          <p:spTgt spid="4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fill="hold">
                      <p:stCondLst>
                        <p:cond delay="indefinite"/>
                      </p:stCondLst>
                      <p:childTnLst>
                        <p:par>
                          <p:cTn id="1931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8" fill="hold">
                            <p:stCondLst>
                              <p:cond delay="500"/>
                            </p:stCondLst>
                            <p:childTnLst>
                              <p:par>
                                <p:cTn id="19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4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6" dur="8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7" dur="8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8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8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8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962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3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4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967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8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9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972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3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4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1143000" y="137160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ا مِنَّا الصَّالِحُونَ وَمِنَّا دُونَ ذَلِكَ كُنّ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طَرَائِقَ قِدَد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781680" y="30481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طَرَائِقَ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781680" y="41148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ِدَد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41148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ط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819520" y="304812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ر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876920" y="304812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ماع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38080" y="304812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سائ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819520" y="411480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عيدة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38080" y="4114800"/>
            <a:ext cx="1665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عبة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066680" y="48769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عنى : وصفت الطرائق بالقدد لأن كل واحدة منها مقطوعة عن غيرها تنتهي بسالكها إلى غاية غير ما ينتهي به غيرها ، والمراد تشبيهها بالمذاهب المتفرقة المشتت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6" dur="indefinite" restart="never" nodeType="tmRoot">
          <p:childTnLst>
            <p:seq>
              <p:cTn id="1977" dur="indefinite" nodeType="mainSeq">
                <p:childTnLst>
                  <p:par>
                    <p:cTn id="1978" fill="hold">
                      <p:stCondLst>
                        <p:cond delay="0"/>
                      </p:stCondLst>
                      <p:childTnLst>
                        <p:par>
                          <p:cTn id="1979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8" dur="14368" fill="hold"/>
                                        <p:tgtEl>
                                          <p:spTgt spid="4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8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2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2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24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5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9" fill="hold">
                            <p:stCondLst>
                              <p:cond delay="500"/>
                            </p:stCondLst>
                            <p:childTnLst>
                              <p:par>
                                <p:cTn id="204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5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058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9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0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063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4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5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7" fill="hold">
                            <p:stCondLst>
                              <p:cond delay="280"/>
                            </p:stCondLst>
                            <p:childTnLst>
                              <p:par>
                                <p:cTn id="20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1219320" y="121932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ا مِنَّا الْمُسْلِمُونَ وَمِنّ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قَاسِطُو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َمَنْ أَسْلَمَ فَأُولَئِك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حَرَّوْ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رَشَد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51102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حَرَّوْ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029200" y="5110200"/>
            <a:ext cx="1214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صد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657600" y="5110200"/>
            <a:ext cx="1173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حث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286000" y="510552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ملو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781680" y="2747880"/>
            <a:ext cx="14479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قَاسِطُون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286000" y="3505320"/>
            <a:ext cx="3960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عادلون عن الح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286000" y="2743200"/>
            <a:ext cx="3962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عيد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0" y="4267080"/>
            <a:ext cx="3962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شككون بالح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1" dur="indefinite" restart="never" nodeType="tmRoot">
          <p:childTnLst>
            <p:seq>
              <p:cTn id="2072" dur="indefinite" nodeType="mainSeq">
                <p:childTnLst>
                  <p:par>
                    <p:cTn id="2073" fill="hold">
                      <p:stCondLst>
                        <p:cond delay="0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79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81" dur="15413" fill="hold"/>
                                        <p:tgtEl>
                                          <p:spTgt spid="4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2" fill="hold">
                      <p:stCondLst>
                        <p:cond delay="indefinite"/>
                      </p:stCondLst>
                      <p:childTnLst>
                        <p:par>
                          <p:cTn id="2083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0" fill="hold">
                            <p:stCondLst>
                              <p:cond delay="500"/>
                            </p:stCondLst>
                            <p:childTnLst>
                              <p:par>
                                <p:cTn id="20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9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06" dur="8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7" dur="8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8" dur="8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11" dur="8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2" dur="8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3" dur="8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5" fill="hold">
                            <p:stCondLst>
                              <p:cond delay="560"/>
                            </p:stCondLst>
                            <p:childTnLst>
                              <p:par>
                                <p:cTn id="211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3" fill="hold">
                            <p:stCondLst>
                              <p:cond delay="1060"/>
                            </p:stCondLst>
                            <p:childTnLst>
                              <p:par>
                                <p:cTn id="21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8" fill="hold">
                            <p:stCondLst>
                              <p:cond delay="1560"/>
                            </p:stCondLst>
                            <p:childTnLst>
                              <p:par>
                                <p:cTn id="212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2" fill="hold">
                            <p:stCondLst>
                              <p:cond delay="2060"/>
                            </p:stCondLst>
                            <p:childTnLst>
                              <p:par>
                                <p:cTn id="21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6" fill="hold">
                      <p:stCondLst>
                        <p:cond delay="indefinite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39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0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1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44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5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6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68580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أ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َّوِ اسْتَقَامُوا عَلَى الطَّرِيقَةِ لَأَسْقَيْنَاهُمْ مَاء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غَدَق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934320" y="358128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غَدَق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3554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ثي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447920" y="35542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دي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105520" y="35542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ذ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8" dur="indefinite" restart="never" nodeType="tmRoot">
          <p:childTnLst>
            <p:seq>
              <p:cTn id="2149" dur="indefinite" nodeType="mainSeq">
                <p:childTnLst>
                  <p:par>
                    <p:cTn id="2150" fill="hold">
                      <p:stCondLst>
                        <p:cond delay="0"/>
                      </p:stCondLst>
                      <p:childTnLst>
                        <p:par>
                          <p:cTn id="2151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56" dur="1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58" dur="11181" fill="hold"/>
                                        <p:tgtEl>
                                          <p:spTgt spid="4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fill="hold">
                      <p:stCondLst>
                        <p:cond delay="indefinite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65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3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5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6" fill="hold">
                      <p:stCondLst>
                        <p:cond delay="indefinite"/>
                      </p:stCondLst>
                      <p:childTnLst>
                        <p:par>
                          <p:cTn id="2187" fill="hold">
                            <p:stCondLst>
                              <p:cond delay="0"/>
                            </p:stCondLst>
                            <p:childTnLst>
                              <p:par>
                                <p:cTn id="21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1066680" y="137160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ِنَفْتِنَهُمْ فِيهِ وَمَنْ يُعْرِضْ عَنْ ذِكْرِ رَبِّهِ يَسْلُكْهُ عَذَابا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صَعَد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052760" y="3417840"/>
            <a:ext cx="1175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صَعَد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181480" y="34020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اق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34020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وي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371600" y="3402000"/>
            <a:ext cx="1461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زائ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62120" y="4383000"/>
            <a:ext cx="664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عذاباً صعدأ : هو العذاب الذي يصعد على المعذب ويغلب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3"/>
          <a:stretch/>
        </p:blipFill>
        <p:spPr>
          <a:xfrm>
            <a:off x="4419720" y="2743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6" dur="indefinite" restart="never" nodeType="tmRoot">
          <p:childTnLst>
            <p:seq>
              <p:cTn id="2197" dur="indefinite" nodeType="mainSeq">
                <p:childTnLst>
                  <p:par>
                    <p:cTn id="2198" fill="hold">
                      <p:stCondLst>
                        <p:cond delay="0"/>
                      </p:stCondLst>
                      <p:childTnLst>
                        <p:par>
                          <p:cTn id="2199" fill="hold">
                            <p:stCondLst>
                              <p:cond delay="0"/>
                            </p:stCondLst>
                            <p:childTnLst>
                              <p:par>
                                <p:cTn id="22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2" dur="8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3" dur="8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4" dur="8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8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09" dur="13271" fill="hold"/>
                                        <p:tgtEl>
                                          <p:spTgt spid="4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2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8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9" fill="hold">
                      <p:stCondLst>
                        <p:cond delay="indefinite"/>
                      </p:stCondLst>
                      <p:childTnLst>
                        <p:par>
                          <p:cTn id="2240" fill="hold">
                            <p:stCondLst>
                              <p:cond delay="0"/>
                            </p:stCondLst>
                            <p:childTnLst>
                              <p:par>
                                <p:cTn id="22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7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457200" y="175248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هُ لَمَّا قَامَ عَبْدُ اللَّهِ يَدْعُوهُ كَادُوا يَكُونُونَ عَلَيْهِ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لِبَد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086600" y="3570120"/>
            <a:ext cx="1066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ِبَد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066680" y="3554280"/>
            <a:ext cx="1538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تمع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105520" y="3554280"/>
            <a:ext cx="1481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اخر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048120" y="35542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اهر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672560" y="4648320"/>
            <a:ext cx="565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ي عندما قام للصلاة ازدحموا عليه متعجبي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1" dur="indefinite" restart="never" nodeType="tmRoot">
          <p:childTnLst>
            <p:seq>
              <p:cTn id="2252" dur="indefinite" nodeType="mainSeq">
                <p:childTnLst>
                  <p:par>
                    <p:cTn id="2253" fill="hold">
                      <p:stCondLst>
                        <p:cond delay="0"/>
                      </p:stCondLst>
                      <p:childTnLst>
                        <p:par>
                          <p:cTn id="2254" fill="hold">
                            <p:stCondLst>
                              <p:cond delay="0"/>
                            </p:stCondLst>
                            <p:childTnLst>
                              <p:par>
                                <p:cTn id="22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59" dur="1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61" dur="13009" fill="hold"/>
                                        <p:tgtEl>
                                          <p:spTgt spid="5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2" fill="hold">
                      <p:stCondLst>
                        <p:cond delay="indefinite"/>
                      </p:stCondLst>
                      <p:childTnLst>
                        <p:par>
                          <p:cTn id="2263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2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2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3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8" fill="hold">
                      <p:stCondLst>
                        <p:cond delay="indefinite"/>
                      </p:stCondLst>
                      <p:childTnLst>
                        <p:par>
                          <p:cTn id="2289" fill="hold">
                            <p:stCondLst>
                              <p:cond delay="0"/>
                            </p:stCondLst>
                            <p:childTnLst>
                              <p:par>
                                <p:cTn id="229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1" dur="10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2" dur="10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3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38080" y="152388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هُوَ الَّذِي جَعَلَ لَكُمُ الْأَرْضَ ذَلُولاً فَامْشُوا فِي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نَاكِبِهَ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كُلُوا مِنْ رِزْقِهِ وَإِلَيْهِ النُّشُور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لك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05720" y="3581280"/>
            <a:ext cx="1527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نَاكِبِهَ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3581280"/>
            <a:ext cx="1593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ظلال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3581280"/>
            <a:ext cx="163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زرع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0160" y="3581280"/>
            <a:ext cx="1684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طح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14890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838080" y="17524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قُلْ إِنِّي لَنْ يُجِيرَنِي مِنَ اللَّهِ أَحَدٌ وَلَنْ أَجِدَ مِنْ دُونِه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ُلْتَحَدا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553080" y="3581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ُلْتَحَد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295280" y="35863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لتجأ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800600" y="3581280"/>
            <a:ext cx="1405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رازق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04812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حاس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3" dur="indefinite" restart="never" nodeType="tmRoot">
          <p:childTnLst>
            <p:seq>
              <p:cTn id="2304" dur="indefinite" nodeType="mainSeq">
                <p:childTnLst>
                  <p:par>
                    <p:cTn id="2305" fill="hold">
                      <p:stCondLst>
                        <p:cond delay="0"/>
                      </p:stCondLst>
                      <p:childTnLst>
                        <p:par>
                          <p:cTn id="2306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9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0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1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2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3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5" dur="11547" fill="hold"/>
                                        <p:tgtEl>
                                          <p:spTgt spid="5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6" fill="hold">
                      <p:stCondLst>
                        <p:cond delay="indefinite"/>
                      </p:stCondLst>
                      <p:childTnLst>
                        <p:par>
                          <p:cTn id="2317" fill="hold">
                            <p:stCondLst>
                              <p:cond delay="0"/>
                            </p:stCondLst>
                            <p:childTnLst>
                              <p:par>
                                <p:cTn id="23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22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2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35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6" fill="hold">
                      <p:stCondLst>
                        <p:cond delay="indefinite"/>
                      </p:stCondLst>
                      <p:childTnLst>
                        <p:par>
                          <p:cTn id="2337" fill="hold">
                            <p:stCondLst>
                              <p:cond delay="0"/>
                            </p:stCondLst>
                            <p:childTnLst>
                              <p:par>
                                <p:cTn id="23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533520" y="1523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يَا أَيُّ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مُزَّمِّل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زم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947280" y="3505320"/>
            <a:ext cx="1447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مُزَّمِّل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350532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تواض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77520" y="3505320"/>
            <a:ext cx="222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لتف بالثو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062680" y="3510000"/>
            <a:ext cx="1795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ضعي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3"/>
          <a:stretch/>
        </p:blipFill>
        <p:spPr>
          <a:xfrm>
            <a:off x="426708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2" dur="indefinite" restart="never" nodeType="tmRoot">
          <p:childTnLst>
            <p:seq>
              <p:cTn id="2343" dur="indefinite" nodeType="mainSeq">
                <p:childTnLst>
                  <p:par>
                    <p:cTn id="2344" fill="hold">
                      <p:stCondLst>
                        <p:cond delay="0"/>
                      </p:stCondLst>
                      <p:childTnLst>
                        <p:par>
                          <p:cTn id="2345" fill="hold">
                            <p:stCondLst>
                              <p:cond delay="0"/>
                            </p:stCondLst>
                            <p:childTnLst>
                              <p:par>
                                <p:cTn id="23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8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9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0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52" dur="5695" fill="hold"/>
                                        <p:tgtEl>
                                          <p:spTgt spid="5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3" fill="hold">
                      <p:stCondLst>
                        <p:cond delay="indefinite"/>
                      </p:stCondLst>
                      <p:childTnLst>
                        <p:par>
                          <p:cTn id="2354" fill="hold">
                            <p:stCondLst>
                              <p:cond delay="0"/>
                            </p:stCondLst>
                            <p:childTnLst>
                              <p:par>
                                <p:cTn id="23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8" fill="hold">
                            <p:stCondLst>
                              <p:cond delay="500"/>
                            </p:stCondLst>
                            <p:childTnLst>
                              <p:par>
                                <p:cTn id="235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3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4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0" fill="hold">
                      <p:stCondLst>
                        <p:cond delay="indefinite"/>
                      </p:stCondLst>
                      <p:childTnLst>
                        <p:par>
                          <p:cTn id="2381" fill="hold">
                            <p:stCondLst>
                              <p:cond delay="0"/>
                            </p:stCondLst>
                            <p:childTnLst>
                              <p:par>
                                <p:cTn id="238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3" dur="10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4" dur="10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85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8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9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90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3" dur="10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4" dur="10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95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1371600" y="160020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َاشِئَة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اللَّيْلِ هِيَ أَشَدّ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طْئ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أَقْوَم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ِيل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زم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86600" y="3124080"/>
            <a:ext cx="11430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َاشِئَة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181480" y="31240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ادث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3124080"/>
            <a:ext cx="1643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فو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95280" y="31240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ف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010280" y="472932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طْئ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295280" y="47293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بات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010280" y="541008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ِيل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124080" y="54100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181480" y="47242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م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472932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و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181480" y="54100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ع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295280" y="54100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حوة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618840" y="3733920"/>
            <a:ext cx="796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راد بحادثة ما يحدث وينشأ ، والمقصود بها الصلاة والطاع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في اللي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3"/>
          <a:stretch/>
        </p:blipFill>
        <p:spPr>
          <a:xfrm>
            <a:off x="5181480" y="243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97" dur="indefinite" restart="never" nodeType="tmRoot">
          <p:childTnLst>
            <p:seq>
              <p:cTn id="2398" dur="indefinite" nodeType="mainSeq">
                <p:childTnLst>
                  <p:par>
                    <p:cTn id="2399" fill="hold">
                      <p:stCondLst>
                        <p:cond delay="0"/>
                      </p:stCondLst>
                      <p:childTnLst>
                        <p:par>
                          <p:cTn id="2400" fill="hold">
                            <p:stCondLst>
                              <p:cond delay="0"/>
                            </p:stCondLst>
                            <p:childTnLst>
                              <p:par>
                                <p:cTn id="24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3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05" dur="9091" fill="hold"/>
                                        <p:tgtEl>
                                          <p:spTgt spid="5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6" fill="hold">
                      <p:stCondLst>
                        <p:cond delay="indefinite"/>
                      </p:stCondLst>
                      <p:childTnLst>
                        <p:par>
                          <p:cTn id="2407" fill="hold">
                            <p:stCondLst>
                              <p:cond delay="0"/>
                            </p:stCondLst>
                            <p:childTnLst>
                              <p:par>
                                <p:cTn id="24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1" fill="hold">
                            <p:stCondLst>
                              <p:cond delay="500"/>
                            </p:stCondLst>
                            <p:childTnLst>
                              <p:par>
                                <p:cTn id="24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1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3" dur="8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4" dur="8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5" dur="8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6" dur="8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9" fill="hold">
                      <p:stCondLst>
                        <p:cond delay="indefinite"/>
                      </p:stCondLst>
                      <p:childTnLst>
                        <p:par>
                          <p:cTn id="2430" fill="hold">
                            <p:stCondLst>
                              <p:cond delay="0"/>
                            </p:stCondLst>
                            <p:childTnLst>
                              <p:par>
                                <p:cTn id="243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32" dur="8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3" dur="8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4" dur="8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37" dur="8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8" dur="8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9" dur="8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1" fill="hold">
                            <p:stCondLst>
                              <p:cond delay="200"/>
                            </p:stCondLst>
                            <p:childTnLst>
                              <p:par>
                                <p:cTn id="2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5" fill="hold">
                      <p:stCondLst>
                        <p:cond delay="indefinite"/>
                      </p:stCondLst>
                      <p:childTnLst>
                        <p:par>
                          <p:cTn id="2446" fill="hold">
                            <p:stCondLst>
                              <p:cond delay="0"/>
                            </p:stCondLst>
                            <p:childTnLst>
                              <p:par>
                                <p:cTn id="2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0" fill="hold">
                            <p:stCondLst>
                              <p:cond delay="500"/>
                            </p:stCondLst>
                            <p:childTnLst>
                              <p:par>
                                <p:cTn id="24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53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8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3" fill="hold">
                      <p:stCondLst>
                        <p:cond delay="indefinite"/>
                      </p:stCondLst>
                      <p:childTnLst>
                        <p:par>
                          <p:cTn id="2464" fill="hold">
                            <p:stCondLst>
                              <p:cond delay="0"/>
                            </p:stCondLst>
                            <p:childTnLst>
                              <p:par>
                                <p:cTn id="246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66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7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8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71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2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3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5" fill="hold">
                            <p:stCondLst>
                              <p:cond delay="240"/>
                            </p:stCondLst>
                            <p:childTnLst>
                              <p:par>
                                <p:cTn id="247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2" fill="hold">
                            <p:stCondLst>
                              <p:cond delay="1240"/>
                            </p:stCondLst>
                            <p:childTnLst>
                              <p:par>
                                <p:cTn id="24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7" fill="hold">
                            <p:stCondLst>
                              <p:cond delay="1740"/>
                            </p:stCondLst>
                            <p:childTnLst>
                              <p:par>
                                <p:cTn id="24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4" fill="hold">
                            <p:stCondLst>
                              <p:cond delay="2240"/>
                            </p:stCondLst>
                            <p:childTnLst>
                              <p:par>
                                <p:cTn id="24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fill="hold">
                      <p:stCondLst>
                        <p:cond delay="indefinite"/>
                      </p:stCondLst>
                      <p:childTnLst>
                        <p:par>
                          <p:cTn id="2499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914400" y="160020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يَوْمَ تَرْجُفُ الْأَرْضُ وَالْجِبَالُ وَكَانَتِ الْجِبَال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ثِيباً مَهِيل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زم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162920" y="441972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هِيل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952880" y="4419720"/>
            <a:ext cx="21337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ُنحدَراً من أعل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666880" y="4419720"/>
            <a:ext cx="2167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رياً ناع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4419720"/>
            <a:ext cx="190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الياً ثابت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162920" y="327672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ثِيب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952880" y="3276720"/>
            <a:ext cx="21337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جارةً صغي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666880" y="3281400"/>
            <a:ext cx="2133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يناً جاف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3276720"/>
            <a:ext cx="190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رملاً مجتم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59640" y="5334120"/>
            <a:ext cx="87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هيل هو إذا حرك الرمل المجتمع من أسفله سال من أعلاه منحدرا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3"/>
          <a:stretch/>
        </p:blipFill>
        <p:spPr>
          <a:xfrm>
            <a:off x="3429000" y="2514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04" dur="indefinite" restart="never" nodeType="tmRoot">
          <p:childTnLst>
            <p:seq>
              <p:cTn id="2505" dur="indefinite" nodeType="mainSeq">
                <p:childTnLst>
                  <p:par>
                    <p:cTn id="2506" fill="hold">
                      <p:stCondLst>
                        <p:cond delay="0"/>
                      </p:stCondLst>
                      <p:childTnLst>
                        <p:par>
                          <p:cTn id="2507" fill="hold">
                            <p:stCondLst>
                              <p:cond delay="0"/>
                            </p:stCondLst>
                            <p:childTnLst>
                              <p:par>
                                <p:cTn id="250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12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4" dur="9614" fill="hold"/>
                                        <p:tgtEl>
                                          <p:spTgt spid="5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fill="hold">
                      <p:stCondLst>
                        <p:cond delay="indefinite"/>
                      </p:stCondLst>
                      <p:childTnLst>
                        <p:par>
                          <p:cTn id="2516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0" fill="hold">
                            <p:stCondLst>
                              <p:cond delay="500"/>
                            </p:stCondLst>
                            <p:childTnLst>
                              <p:par>
                                <p:cTn id="25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2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3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3" fill="hold">
                      <p:stCondLst>
                        <p:cond delay="indefinite"/>
                      </p:stCondLst>
                      <p:childTnLst>
                        <p:par>
                          <p:cTn id="2534" fill="hold">
                            <p:stCondLst>
                              <p:cond delay="0"/>
                            </p:stCondLst>
                            <p:childTnLst>
                              <p:par>
                                <p:cTn id="253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536" dur="8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7" dur="8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8" dur="8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541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2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3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5" fill="hold">
                            <p:stCondLst>
                              <p:cond delay="480"/>
                            </p:stCondLst>
                            <p:childTnLst>
                              <p:par>
                                <p:cTn id="25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0" fill="hold">
                            <p:stCondLst>
                              <p:cond delay="980"/>
                            </p:stCondLst>
                            <p:childTnLst>
                              <p:par>
                                <p:cTn id="25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5" fill="hold">
                            <p:stCondLst>
                              <p:cond delay="1480"/>
                            </p:stCondLst>
                            <p:childTnLst>
                              <p:par>
                                <p:cTn id="255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60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1" fill="hold">
                            <p:stCondLst>
                              <p:cond delay="2480"/>
                            </p:stCondLst>
                            <p:childTnLst>
                              <p:par>
                                <p:cTn id="25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6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5" fill="hold">
                      <p:stCondLst>
                        <p:cond delay="indefinite"/>
                      </p:stCondLst>
                      <p:childTnLst>
                        <p:par>
                          <p:cTn id="2566" fill="hold">
                            <p:stCondLst>
                              <p:cond delay="0"/>
                            </p:stCondLst>
                            <p:childTnLst>
                              <p:par>
                                <p:cTn id="25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1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609480" y="17524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يَا أَيُّ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مُدَّثِّر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858000" y="3292560"/>
            <a:ext cx="12193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مُدَّثِّر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066680" y="3276720"/>
            <a:ext cx="12636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ختب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819520" y="3276720"/>
            <a:ext cx="14475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تغط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800600" y="32767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تدف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3"/>
          <a:stretch/>
        </p:blipFill>
        <p:spPr>
          <a:xfrm>
            <a:off x="4419720" y="2438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75" dur="indefinite" restart="never" nodeType="tmRoot">
          <p:childTnLst>
            <p:seq>
              <p:cTn id="2576" dur="indefinite" nodeType="mainSeq">
                <p:childTnLst>
                  <p:par>
                    <p:cTn id="2577" fill="hold">
                      <p:stCondLst>
                        <p:cond delay="0"/>
                      </p:stCondLst>
                      <p:childTnLst>
                        <p:par>
                          <p:cTn id="2578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1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2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3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85" dur="5382" fill="hold"/>
                                        <p:tgtEl>
                                          <p:spTgt spid="5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6" fill="hold">
                      <p:stCondLst>
                        <p:cond delay="indefinite"/>
                      </p:stCondLst>
                      <p:childTnLst>
                        <p:par>
                          <p:cTn id="2587" fill="hold">
                            <p:stCondLst>
                              <p:cond delay="0"/>
                            </p:stCondLst>
                            <p:childTnLst>
                              <p:par>
                                <p:cTn id="25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2" fill="hold">
                            <p:stCondLst>
                              <p:cond delay="500"/>
                            </p:stCondLst>
                            <p:childTnLst>
                              <p:par>
                                <p:cTn id="25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0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5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6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609480" y="16002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لرُّجْز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اهْجُرْ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930720" y="3505320"/>
            <a:ext cx="1370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لرُّجْز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994120" y="3510000"/>
            <a:ext cx="1577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إث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952880" y="35053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شهو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077840" y="3505320"/>
            <a:ext cx="1589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جهو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4" dur="indefinite" restart="never" nodeType="tmRoot">
          <p:childTnLst>
            <p:seq>
              <p:cTn id="2615" dur="indefinite" nodeType="mainSeq">
                <p:childTnLst>
                  <p:par>
                    <p:cTn id="2616" fill="hold">
                      <p:stCondLst>
                        <p:cond delay="0"/>
                      </p:stCondLst>
                      <p:childTnLst>
                        <p:par>
                          <p:cTn id="2617" fill="hold">
                            <p:stCondLst>
                              <p:cond delay="0"/>
                            </p:stCondLst>
                            <p:childTnLst>
                              <p:par>
                                <p:cTn id="261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22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24" dur="2822" fill="hold"/>
                                        <p:tgtEl>
                                          <p:spTgt spid="5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5" fill="hold">
                      <p:stCondLst>
                        <p:cond delay="indefinite"/>
                      </p:stCondLst>
                      <p:childTnLst>
                        <p:par>
                          <p:cTn id="2626" fill="hold">
                            <p:stCondLst>
                              <p:cond delay="0"/>
                            </p:stCondLst>
                            <p:childTnLst>
                              <p:par>
                                <p:cTn id="26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9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0" fill="hold">
                            <p:stCondLst>
                              <p:cond delay="500"/>
                            </p:stCondLst>
                            <p:childTnLst>
                              <p:par>
                                <p:cTn id="26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7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8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9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6" fill="hold">
                      <p:stCondLst>
                        <p:cond delay="indefinite"/>
                      </p:stCondLst>
                      <p:childTnLst>
                        <p:par>
                          <p:cTn id="2647" fill="hold">
                            <p:stCondLst>
                              <p:cond delay="0"/>
                            </p:stCondLst>
                            <p:childTnLst>
                              <p:par>
                                <p:cTn id="26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53352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إِذَا نُقِرَ فِي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نَّاقُور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553080" y="3052800"/>
            <a:ext cx="1432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نَّاقُور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438280" y="3048120"/>
            <a:ext cx="3276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نقر فيه للتصوي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438280" y="3809880"/>
            <a:ext cx="3276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كتب في اللو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438280" y="4572000"/>
            <a:ext cx="3279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زم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2139840" y="5257800"/>
            <a:ext cx="52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نقر معناه القرع  أي الدق على الشيء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3"/>
          <a:stretch/>
        </p:blipFill>
        <p:spPr>
          <a:xfrm>
            <a:off x="426708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52" dur="indefinite" restart="never" nodeType="tmRoot">
          <p:childTnLst>
            <p:seq>
              <p:cTn id="2653" dur="indefinite" nodeType="mainSeq">
                <p:childTnLst>
                  <p:par>
                    <p:cTn id="2654" fill="hold">
                      <p:stCondLst>
                        <p:cond delay="0"/>
                      </p:stCondLst>
                      <p:childTnLst>
                        <p:par>
                          <p:cTn id="2655" fill="hold">
                            <p:stCondLst>
                              <p:cond delay="0"/>
                            </p:stCondLst>
                            <p:childTnLst>
                              <p:par>
                                <p:cTn id="26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8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9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0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62" dur="4441" fill="hold"/>
                                        <p:tgtEl>
                                          <p:spTgt spid="5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3" fill="hold">
                      <p:stCondLst>
                        <p:cond delay="indefinite"/>
                      </p:stCondLst>
                      <p:childTnLst>
                        <p:par>
                          <p:cTn id="2664" fill="hold">
                            <p:stCondLst>
                              <p:cond delay="0"/>
                            </p:stCondLst>
                            <p:childTnLst>
                              <p:par>
                                <p:cTn id="2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5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3" fill="hold">
                      <p:stCondLst>
                        <p:cond delay="indefinite"/>
                      </p:stCondLst>
                      <p:childTnLst>
                        <p:par>
                          <p:cTn id="2684" fill="hold">
                            <p:stCondLst>
                              <p:cond delay="0"/>
                            </p:stCondLst>
                            <p:childTnLst>
                              <p:par>
                                <p:cTn id="26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86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7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90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1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3" fill="hold">
                            <p:stCondLst>
                              <p:cond delay="500"/>
                            </p:stCondLst>
                            <p:childTnLst>
                              <p:par>
                                <p:cTn id="26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457200" y="17524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هُ فَكَّرَ و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َقَدَّر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629400" y="35100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َقَدَّر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219320" y="351000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س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876920" y="35100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م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124080" y="3510000"/>
            <a:ext cx="1360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3"/>
          <a:stretch/>
        </p:blipFill>
        <p:spPr>
          <a:xfrm>
            <a:off x="434340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97" dur="indefinite" restart="never" nodeType="tmRoot">
          <p:childTnLst>
            <p:seq>
              <p:cTn id="2698" dur="indefinite" nodeType="mainSeq">
                <p:childTnLst>
                  <p:par>
                    <p:cTn id="2699" fill="hold">
                      <p:stCondLst>
                        <p:cond delay="0"/>
                      </p:stCondLst>
                      <p:childTnLst>
                        <p:par>
                          <p:cTn id="2700" fill="hold">
                            <p:stCondLst>
                              <p:cond delay="0"/>
                            </p:stCondLst>
                            <p:childTnLst>
                              <p:par>
                                <p:cTn id="27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3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5" dur="4441" fill="hold"/>
                                        <p:tgtEl>
                                          <p:spTgt spid="5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6" fill="hold">
                      <p:stCondLst>
                        <p:cond delay="indefinite"/>
                      </p:stCondLst>
                      <p:childTnLst>
                        <p:par>
                          <p:cTn id="2707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1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1" fill="hold">
                            <p:stCondLst>
                              <p:cond delay="500"/>
                            </p:stCondLst>
                            <p:childTnLst>
                              <p:par>
                                <p:cTn id="27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21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8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3" fill="hold">
                      <p:stCondLst>
                        <p:cond delay="indefinite"/>
                      </p:stCondLst>
                      <p:childTnLst>
                        <p:par>
                          <p:cTn id="2734" fill="hold">
                            <p:stCondLst>
                              <p:cond delay="0"/>
                            </p:stCondLst>
                            <p:childTnLst>
                              <p:par>
                                <p:cTn id="273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762120" y="18288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ثُمَّ عَبَسَ و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َبَسَر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705720" y="34290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َبَسَر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800600" y="34290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شّ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971800" y="3429000"/>
            <a:ext cx="1484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ض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066680" y="3429000"/>
            <a:ext cx="1517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ب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3"/>
          <a:stretch/>
        </p:blipFill>
        <p:spPr>
          <a:xfrm>
            <a:off x="4419720" y="2666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9" dur="indefinite" restart="never" nodeType="tmRoot">
          <p:childTnLst>
            <p:seq>
              <p:cTn id="2740" dur="indefinite" nodeType="mainSeq">
                <p:childTnLst>
                  <p:par>
                    <p:cTn id="2741" fill="hold">
                      <p:stCondLst>
                        <p:cond delay="0"/>
                      </p:stCondLst>
                      <p:childTnLst>
                        <p:par>
                          <p:cTn id="2742" fill="hold">
                            <p:stCondLst>
                              <p:cond delay="0"/>
                            </p:stCondLst>
                            <p:childTnLst>
                              <p:par>
                                <p:cTn id="2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5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47" dur="3344" fill="hold"/>
                                        <p:tgtEl>
                                          <p:spTgt spid="6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8" fill="hold">
                      <p:stCondLst>
                        <p:cond delay="indefinite"/>
                      </p:stCondLst>
                      <p:childTnLst>
                        <p:par>
                          <p:cTn id="2749" fill="hold">
                            <p:stCondLst>
                              <p:cond delay="0"/>
                            </p:stCondLst>
                            <p:childTnLst>
                              <p:par>
                                <p:cTn id="27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2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3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4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5" fill="hold">
                            <p:stCondLst>
                              <p:cond delay="360"/>
                            </p:stCondLst>
                            <p:childTnLst>
                              <p:par>
                                <p:cTn id="275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1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6" fill="hold">
                            <p:stCondLst>
                              <p:cond delay="1360"/>
                            </p:stCondLst>
                            <p:childTnLst>
                              <p:par>
                                <p:cTn id="27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9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0" fill="hold">
                            <p:stCondLst>
                              <p:cond delay="1860"/>
                            </p:stCondLst>
                            <p:childTnLst>
                              <p:par>
                                <p:cTn id="277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6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9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0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1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2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3" fill="hold">
                      <p:stCondLst>
                        <p:cond delay="indefinite"/>
                      </p:stCondLst>
                      <p:childTnLst>
                        <p:par>
                          <p:cTn id="2784" fill="hold">
                            <p:stCondLst>
                              <p:cond delay="0"/>
                            </p:stCondLst>
                            <p:childTnLst>
                              <p:par>
                                <p:cTn id="278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78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9" dur="10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0" dur="10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91" dur="10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4" dur="10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5" dur="10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96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609480" y="18288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قَالَ إِنْ هَذَا إِلَّا سِحْرٌ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ُؤْثَر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010280" y="320040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ُؤْثَر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257800" y="32050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رو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505320" y="32050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ُعمل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676520" y="320040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فرّق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202920" y="4572000"/>
            <a:ext cx="382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يروى ويتعلم من السحر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3"/>
          <a:stretch/>
        </p:blipFill>
        <p:spPr>
          <a:xfrm>
            <a:off x="4419720" y="2590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98" dur="indefinite" restart="never" nodeType="tmRoot">
          <p:childTnLst>
            <p:seq>
              <p:cTn id="2799" dur="indefinite" nodeType="mainSeq">
                <p:childTnLst>
                  <p:par>
                    <p:cTn id="2800" fill="hold">
                      <p:stCondLst>
                        <p:cond delay="0"/>
                      </p:stCondLst>
                      <p:childTnLst>
                        <p:par>
                          <p:cTn id="2801" fill="hold">
                            <p:stCondLst>
                              <p:cond delay="0"/>
                            </p:stCondLst>
                            <p:childTnLst>
                              <p:par>
                                <p:cTn id="280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09" dur="7419" fill="hold"/>
                                        <p:tgtEl>
                                          <p:spTgt spid="6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0" fill="hold">
                      <p:stCondLst>
                        <p:cond delay="indefinite"/>
                      </p:stCondLst>
                      <p:childTnLst>
                        <p:par>
                          <p:cTn id="2811" fill="hold">
                            <p:stCondLst>
                              <p:cond delay="0"/>
                            </p:stCondLst>
                            <p:childTnLst>
                              <p:par>
                                <p:cTn id="28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16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7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8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9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3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4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5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6" fill="hold">
                      <p:stCondLst>
                        <p:cond delay="indefinite"/>
                      </p:stCondLst>
                      <p:childTnLst>
                        <p:par>
                          <p:cTn id="2837" fill="hold">
                            <p:stCondLst>
                              <p:cond delay="0"/>
                            </p:stCondLst>
                            <p:childTnLst>
                              <p:par>
                                <p:cTn id="283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9" dur="100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0" dur="100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41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3" nodeType="with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844" dur="10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5" dur="10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46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1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62120" y="175248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فَمَنْ يَمْشِي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ُكِبّ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عَلَى وَجْهِهِ أَهْدَى أَمَّنْ يَمْشِي سَوِيّاً عَلَى صِرَاطٍ مُسْتَقِيم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لك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0" y="373392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ُكِبّ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3738600"/>
            <a:ext cx="1589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ُسقط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733920"/>
            <a:ext cx="1700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ريص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3738600"/>
            <a:ext cx="163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رح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8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7607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609480" y="16002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َا تُبْقِي وَلَا تَذَر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َوَّاحَةٌ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لِلْبَشَرِ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               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: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28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781680" y="31734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َوَّاح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447920" y="3173400"/>
            <a:ext cx="1331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ُغيِّ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952880" y="31734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ُهلك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124080" y="31734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ُقط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205360" y="4191120"/>
            <a:ext cx="47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إنها تغيَّر لون البشرة إلى السواد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52" dur="indefinite" restart="never" nodeType="tmRoot">
          <p:childTnLst>
            <p:seq>
              <p:cTn id="2853" dur="indefinite" nodeType="mainSeq">
                <p:childTnLst>
                  <p:par>
                    <p:cTn id="2854" fill="hold">
                      <p:stCondLst>
                        <p:cond delay="0"/>
                      </p:stCondLst>
                      <p:childTnLst>
                        <p:par>
                          <p:cTn id="2855" fill="hold">
                            <p:stCondLst>
                              <p:cond delay="0"/>
                            </p:stCondLst>
                            <p:childTnLst>
                              <p:par>
                                <p:cTn id="28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60" dur="6845" fill="hold"/>
                                        <p:tgtEl>
                                          <p:spTgt spid="6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1" fill="hold">
                      <p:stCondLst>
                        <p:cond delay="indefinite"/>
                      </p:stCondLst>
                      <p:childTnLst>
                        <p:par>
                          <p:cTn id="2862" fill="hold">
                            <p:stCondLst>
                              <p:cond delay="0"/>
                            </p:stCondLst>
                            <p:childTnLst>
                              <p:par>
                                <p:cTn id="2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6" fill="hold">
                            <p:stCondLst>
                              <p:cond delay="500"/>
                            </p:stCondLst>
                            <p:childTnLst>
                              <p:par>
                                <p:cTn id="28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9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5" fill="hold">
                      <p:stCondLst>
                        <p:cond delay="indefinite"/>
                      </p:stCondLst>
                      <p:childTnLst>
                        <p:par>
                          <p:cTn id="2886" fill="hold">
                            <p:stCondLst>
                              <p:cond delay="0"/>
                            </p:stCondLst>
                            <p:childTnLst>
                              <p:par>
                                <p:cTn id="288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8" dur="100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9" dur="100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90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93" dur="10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4" dur="10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95" dur="10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98" dur="10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9" dur="10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00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5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685800" y="18288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الصُّبْحِ إِذ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َسْفَر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85800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َسْفَر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029200" y="3581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إنكش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200400" y="3581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ذه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219320" y="3581280"/>
            <a:ext cx="1592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ل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06" dur="indefinite" restart="never" nodeType="tmRoot">
          <p:childTnLst>
            <p:seq>
              <p:cTn id="2907" dur="indefinite" nodeType="mainSeq">
                <p:childTnLst>
                  <p:par>
                    <p:cTn id="2908" fill="hold">
                      <p:stCondLst>
                        <p:cond delay="0"/>
                      </p:stCondLst>
                      <p:childTnLst>
                        <p:par>
                          <p:cTn id="2909" fill="hold">
                            <p:stCondLst>
                              <p:cond delay="0"/>
                            </p:stCondLst>
                            <p:childTnLst>
                              <p:par>
                                <p:cTn id="291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5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21" dur="4598" fill="hold"/>
                                        <p:tgtEl>
                                          <p:spTgt spid="6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2" fill="hold">
                      <p:stCondLst>
                        <p:cond delay="indefinite"/>
                      </p:stCondLst>
                      <p:childTnLst>
                        <p:par>
                          <p:cTn id="2923" fill="hold">
                            <p:stCondLst>
                              <p:cond delay="0"/>
                            </p:stCondLst>
                            <p:childTnLst>
                              <p:par>
                                <p:cTn id="29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6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31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5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6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42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3" fill="hold">
                      <p:stCondLst>
                        <p:cond delay="indefinite"/>
                      </p:stCondLst>
                      <p:childTnLst>
                        <p:par>
                          <p:cTn id="2944" fill="hold">
                            <p:stCondLst>
                              <p:cond delay="0"/>
                            </p:stCondLst>
                            <p:childTnLst>
                              <p:par>
                                <p:cTn id="29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762120" y="16765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كَأَنَّهُم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ُمُرٌ مُسْتَنْفِرَة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رَّتْ مِن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سْوَرَة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50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51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956280" y="3276720"/>
            <a:ext cx="127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ُمُرٌ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763320" y="4038480"/>
            <a:ext cx="1672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ُسْتَنْفِر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00400" y="32814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م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105520" y="32767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لو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371600" y="32767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يوان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105520" y="4038480"/>
            <a:ext cx="1438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ري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200400" y="40435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ف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295280" y="40384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تم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92240" y="5486400"/>
            <a:ext cx="89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عنى :أنه  شبه الذين يعرضون عن الذكر كأنهم حمير هاربة من الاس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934320" y="4800600"/>
            <a:ext cx="12952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سْوَرَة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295280" y="48006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س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124080" y="48006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س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105520" y="480528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ب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3"/>
          <a:stretch/>
        </p:blipFill>
        <p:spPr>
          <a:xfrm>
            <a:off x="1219320" y="1905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49" dur="indefinite" restart="never" nodeType="tmRoot">
          <p:childTnLst>
            <p:seq>
              <p:cTn id="2950" dur="indefinite" nodeType="mainSeq">
                <p:childTnLst>
                  <p:par>
                    <p:cTn id="2951" fill="hold">
                      <p:stCondLst>
                        <p:cond delay="0"/>
                      </p:stCondLst>
                      <p:childTnLst>
                        <p:par>
                          <p:cTn id="2952" fill="hold">
                            <p:stCondLst>
                              <p:cond delay="0"/>
                            </p:stCondLst>
                            <p:childTnLst>
                              <p:par>
                                <p:cTn id="29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5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6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7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59" dur="9457" fill="hold"/>
                                        <p:tgtEl>
                                          <p:spTgt spid="6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0" fill="hold">
                      <p:stCondLst>
                        <p:cond delay="indefinite"/>
                      </p:stCondLst>
                      <p:childTnLst>
                        <p:par>
                          <p:cTn id="2961" fill="hold">
                            <p:stCondLst>
                              <p:cond delay="0"/>
                            </p:stCondLst>
                            <p:childTnLst>
                              <p:par>
                                <p:cTn id="29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66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7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81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2" fill="hold">
                      <p:stCondLst>
                        <p:cond delay="indefinite"/>
                      </p:stCondLst>
                      <p:childTnLst>
                        <p:par>
                          <p:cTn id="2983" fill="hold">
                            <p:stCondLst>
                              <p:cond delay="0"/>
                            </p:stCondLst>
                            <p:childTnLst>
                              <p:par>
                                <p:cTn id="29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8" fill="hold">
                            <p:stCondLst>
                              <p:cond delay="0"/>
                            </p:stCondLst>
                            <p:childTnLst>
                              <p:par>
                                <p:cTn id="29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2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6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6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7" fill="hold">
                      <p:stCondLst>
                        <p:cond delay="indefinite"/>
                      </p:stCondLst>
                      <p:childTnLst>
                        <p:par>
                          <p:cTn id="3008" fill="hold">
                            <p:stCondLst>
                              <p:cond delay="0"/>
                            </p:stCondLst>
                            <p:childTnLst>
                              <p:par>
                                <p:cTn id="300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10" dur="10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1" dur="10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12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4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15" dur="10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6" dur="10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17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6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7" fill="hold">
                            <p:stCondLst>
                              <p:cond delay="2500"/>
                            </p:stCondLst>
                            <p:childTnLst>
                              <p:par>
                                <p:cTn id="30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0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36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7" fill="hold">
                      <p:stCondLst>
                        <p:cond delay="indefinite"/>
                      </p:stCondLst>
                      <p:childTnLst>
                        <p:par>
                          <p:cTn id="3038" fill="hold">
                            <p:stCondLst>
                              <p:cond delay="0"/>
                            </p:stCondLst>
                            <p:childTnLst>
                              <p:par>
                                <p:cTn id="30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3" fill="hold">
                            <p:stCondLst>
                              <p:cond delay="0"/>
                            </p:stCondLst>
                            <p:childTnLst>
                              <p:par>
                                <p:cTn id="30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6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685800" y="18288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َلَى قَادِرِينَ عَلَى أَنْ نُسَوِّي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َنَانَه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934320" y="365760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َنَانَه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553120" y="3657600"/>
            <a:ext cx="2294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طراف أصابع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800600" y="3683160"/>
            <a:ext cx="1865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رأس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85800" y="3657600"/>
            <a:ext cx="19051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ظام جسد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5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7" dur="indefinite" restart="never" nodeType="tmRoot">
          <p:childTnLst>
            <p:seq>
              <p:cTn id="3048" dur="indefinite" nodeType="mainSeq">
                <p:childTnLst>
                  <p:par>
                    <p:cTn id="3049" fill="hold">
                      <p:stCondLst>
                        <p:cond delay="0"/>
                      </p:stCondLst>
                      <p:childTnLst>
                        <p:par>
                          <p:cTn id="3050" fill="hold">
                            <p:stCondLst>
                              <p:cond delay="0"/>
                            </p:stCondLst>
                            <p:childTnLst>
                              <p:par>
                                <p:cTn id="305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3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4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5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6" dur="500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58" dur="7576" fill="hold"/>
                                        <p:tgtEl>
                                          <p:spTgt spid="6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9" fill="hold">
                      <p:stCondLst>
                        <p:cond delay="indefinite"/>
                      </p:stCondLst>
                      <p:childTnLst>
                        <p:par>
                          <p:cTn id="3060" fill="hold">
                            <p:stCondLst>
                              <p:cond delay="0"/>
                            </p:stCondLst>
                            <p:childTnLst>
                              <p:par>
                                <p:cTn id="30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65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69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7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9" fill="hold">
                      <p:stCondLst>
                        <p:cond delay="indefinite"/>
                      </p:stCondLst>
                      <p:childTnLst>
                        <p:par>
                          <p:cTn id="3080" fill="hold">
                            <p:stCondLst>
                              <p:cond delay="0"/>
                            </p:stCondLst>
                            <p:childTnLst>
                              <p:par>
                                <p:cTn id="308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82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3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4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8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87" dur="8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8" dur="8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9" dur="8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533520" y="1523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َلْ يُرِيدُ الْأِنْسَان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ِيَفْجُرَ أَمَامَه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يامة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705720" y="3124080"/>
            <a:ext cx="1463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ِيَفْجُر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952880" y="31291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شقّ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200400" y="3124080"/>
            <a:ext cx="1353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نظ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395360" y="3124080"/>
            <a:ext cx="1424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بن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705720" y="4114800"/>
            <a:ext cx="1436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أَمَامَه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71808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876920" y="4114800"/>
            <a:ext cx="1423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مل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124080" y="4114800"/>
            <a:ext cx="13716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قبل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371600" y="41148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إيمان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-44280" y="5029200"/>
            <a:ext cx="92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ليفجر أمامه : أي يريد الانسان أن يشق ستر الديانة  على مدى عمره وم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دام حياً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91" dur="indefinite" restart="never" nodeType="tmRoot">
          <p:childTnLst>
            <p:seq>
              <p:cTn id="3092" dur="indefinite" nodeType="mainSeq">
                <p:childTnLst>
                  <p:par>
                    <p:cTn id="3093" fill="hold">
                      <p:stCondLst>
                        <p:cond delay="0"/>
                      </p:stCondLst>
                      <p:childTnLst>
                        <p:par>
                          <p:cTn id="3094" fill="hold">
                            <p:stCondLst>
                              <p:cond delay="0"/>
                            </p:stCondLst>
                            <p:childTnLst>
                              <p:par>
                                <p:cTn id="30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7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8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9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01" dur="6479" fill="hold"/>
                                        <p:tgtEl>
                                          <p:spTgt spid="6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2" fill="hold">
                      <p:stCondLst>
                        <p:cond delay="indefinite"/>
                      </p:stCondLst>
                      <p:childTnLst>
                        <p:par>
                          <p:cTn id="3103" fill="hold">
                            <p:stCondLst>
                              <p:cond delay="0"/>
                            </p:stCondLst>
                            <p:childTnLst>
                              <p:par>
                                <p:cTn id="31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6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1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1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1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3" fill="hold">
                      <p:stCondLst>
                        <p:cond delay="indefinite"/>
                      </p:stCondLst>
                      <p:childTnLst>
                        <p:par>
                          <p:cTn id="3124" fill="hold">
                            <p:stCondLst>
                              <p:cond delay="0"/>
                            </p:stCondLst>
                            <p:childTnLst>
                              <p:par>
                                <p:cTn id="312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26" dur="8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7" dur="8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8" dur="8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2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31" dur="8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2" dur="8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3" dur="8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5" fill="hold">
                            <p:stCondLst>
                              <p:cond delay="240"/>
                            </p:stCondLst>
                            <p:childTnLst>
                              <p:par>
                                <p:cTn id="3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9" fill="hold">
                            <p:stCondLst>
                              <p:cond delay="740"/>
                            </p:stCondLst>
                            <p:childTnLst>
                              <p:par>
                                <p:cTn id="31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3" fill="hold">
                            <p:stCondLst>
                              <p:cond delay="1240"/>
                            </p:stCondLst>
                            <p:childTnLst>
                              <p:par>
                                <p:cTn id="31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6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7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8" fill="hold">
                            <p:stCondLst>
                              <p:cond delay="1740"/>
                            </p:stCondLst>
                            <p:childTnLst>
                              <p:par>
                                <p:cTn id="314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53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4" fill="hold">
                      <p:stCondLst>
                        <p:cond delay="indefinite"/>
                      </p:stCondLst>
                      <p:childTnLst>
                        <p:par>
                          <p:cTn id="3155" fill="hold">
                            <p:stCondLst>
                              <p:cond delay="0"/>
                            </p:stCondLst>
                            <p:childTnLst>
                              <p:par>
                                <p:cTn id="315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7" dur="10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8" dur="10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9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2" dur="100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3" dur="100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64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/>
          <p:nvPr/>
        </p:nvSpPr>
        <p:spPr>
          <a:xfrm>
            <a:off x="533520" y="16002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كَلَّا لا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وَزَر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لَى رَبِّكَ يَوْمَئِذٍ الْمُسْتَقَرُّ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يامة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1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010280" y="351000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زَر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124080" y="3478320"/>
            <a:ext cx="1468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لج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105520" y="351000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إث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219320" y="34783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ر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3"/>
          <a:stretch/>
        </p:blipFill>
        <p:spPr>
          <a:xfrm>
            <a:off x="7467480" y="213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70" dur="indefinite" restart="never" nodeType="tmRoot">
          <p:childTnLst>
            <p:seq>
              <p:cTn id="3171" dur="indefinite" nodeType="mainSeq">
                <p:childTnLst>
                  <p:par>
                    <p:cTn id="3172" fill="hold">
                      <p:stCondLst>
                        <p:cond delay="0"/>
                      </p:stCondLst>
                      <p:childTnLst>
                        <p:par>
                          <p:cTn id="3173" fill="hold">
                            <p:stCondLst>
                              <p:cond delay="0"/>
                            </p:stCondLst>
                            <p:childTnLst>
                              <p:par>
                                <p:cTn id="317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78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80" dur="8203" fill="hold"/>
                                        <p:tgtEl>
                                          <p:spTgt spid="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1" fill="hold">
                      <p:stCondLst>
                        <p:cond delay="indefinite"/>
                      </p:stCondLst>
                      <p:childTnLst>
                        <p:par>
                          <p:cTn id="3182" fill="hold">
                            <p:stCondLst>
                              <p:cond delay="0"/>
                            </p:stCondLst>
                            <p:childTnLst>
                              <p:par>
                                <p:cTn id="31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5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0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1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5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7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01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2" fill="hold">
                      <p:stCondLst>
                        <p:cond delay="indefinite"/>
                      </p:stCondLst>
                      <p:childTnLst>
                        <p:par>
                          <p:cTn id="3203" fill="hold">
                            <p:stCondLst>
                              <p:cond delay="0"/>
                            </p:stCondLst>
                            <p:childTnLst>
                              <p:par>
                                <p:cTn id="320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05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6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7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0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10" dur="8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1" dur="8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2" dur="8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1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>
            <a:off x="609480" y="16765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َلِ الْإِنْسَانُ عَلَى نَفْسِه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َصِير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َوْ أَلْقَى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عَاذِيرَه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يامة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4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5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934320" y="4164120"/>
            <a:ext cx="12952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عَاذِيرَه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914400" y="41641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عذار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5105520" y="41641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ثقال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971800" y="41641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سحار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934320" y="327672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َصِير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105520" y="32814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ج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971800" y="3325680"/>
            <a:ext cx="1595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ؤول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990720" y="3325680"/>
            <a:ext cx="1498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خيَّر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3"/>
          <a:stretch/>
        </p:blipFill>
        <p:spPr>
          <a:xfrm>
            <a:off x="266688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4" dur="indefinite" restart="never" nodeType="tmRoot">
          <p:childTnLst>
            <p:seq>
              <p:cTn id="3215" dur="indefinite" nodeType="mainSeq">
                <p:childTnLst>
                  <p:par>
                    <p:cTn id="3216" fill="hold">
                      <p:stCondLst>
                        <p:cond delay="0"/>
                      </p:stCondLst>
                      <p:childTnLst>
                        <p:par>
                          <p:cTn id="3217" fill="hold">
                            <p:stCondLst>
                              <p:cond delay="0"/>
                            </p:stCondLst>
                            <p:childTnLst>
                              <p:par>
                                <p:cTn id="321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22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24" dur="10867" fill="hold"/>
                                        <p:tgtEl>
                                          <p:spTgt spid="6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5" fill="hold">
                      <p:stCondLst>
                        <p:cond delay="indefinite"/>
                      </p:stCondLst>
                      <p:childTnLst>
                        <p:par>
                          <p:cTn id="3226" fill="hold">
                            <p:stCondLst>
                              <p:cond delay="0"/>
                            </p:stCondLst>
                            <p:childTnLst>
                              <p:par>
                                <p:cTn id="32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9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0" fill="hold">
                            <p:stCondLst>
                              <p:cond delay="500"/>
                            </p:stCondLst>
                            <p:childTnLst>
                              <p:par>
                                <p:cTn id="32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3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4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6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8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9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0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1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45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6" fill="hold">
                      <p:stCondLst>
                        <p:cond delay="indefinite"/>
                      </p:stCondLst>
                      <p:childTnLst>
                        <p:par>
                          <p:cTn id="3247" fill="hold">
                            <p:stCondLst>
                              <p:cond delay="0"/>
                            </p:stCondLst>
                            <p:childTnLst>
                              <p:par>
                                <p:cTn id="324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49" dur="8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0" dur="8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1" dur="8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5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54" dur="8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5" dur="8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6" dur="8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5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8" fill="hold">
                            <p:stCondLst>
                              <p:cond delay="320"/>
                            </p:stCondLst>
                            <p:childTnLst>
                              <p:par>
                                <p:cTn id="32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61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2" fill="hold">
                            <p:stCondLst>
                              <p:cond delay="820"/>
                            </p:stCondLst>
                            <p:childTnLst>
                              <p:par>
                                <p:cTn id="32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5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7" fill="hold">
                            <p:stCondLst>
                              <p:cond delay="1320"/>
                            </p:stCondLst>
                            <p:childTnLst>
                              <p:par>
                                <p:cTn id="326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72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3" fill="hold">
                            <p:stCondLst>
                              <p:cond delay="2320"/>
                            </p:stCondLst>
                            <p:childTnLst>
                              <p:par>
                                <p:cTn id="3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6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7" fill="hold">
                      <p:stCondLst>
                        <p:cond delay="indefinite"/>
                      </p:stCondLst>
                      <p:childTnLst>
                        <p:par>
                          <p:cTn id="3278" fill="hold">
                            <p:stCondLst>
                              <p:cond delay="0"/>
                            </p:stCondLst>
                            <p:childTnLst>
                              <p:par>
                                <p:cTn id="327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80" dur="10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1" dur="10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82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4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85" dur="100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6" dur="100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87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685800" y="19051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ُجُوهٌ يَوْمَئِذ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َاضِرَة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870240" y="3662280"/>
            <a:ext cx="1280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َاضِر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952880" y="36622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شرق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808360" y="3662280"/>
            <a:ext cx="1687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بشر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62120" y="36622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ابس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9" dur="indefinite" restart="never" nodeType="tmRoot">
          <p:childTnLst>
            <p:seq>
              <p:cTn id="3290" dur="indefinite" nodeType="mainSeq">
                <p:childTnLst>
                  <p:par>
                    <p:cTn id="3291" fill="hold">
                      <p:stCondLst>
                        <p:cond delay="0"/>
                      </p:stCondLst>
                      <p:childTnLst>
                        <p:par>
                          <p:cTn id="3292" fill="hold">
                            <p:stCondLst>
                              <p:cond delay="0"/>
                            </p:stCondLst>
                            <p:childTnLst>
                              <p:par>
                                <p:cTn id="32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5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6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7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99" dur="5591" fill="hold"/>
                                        <p:tgtEl>
                                          <p:spTgt spid="7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0" fill="hold">
                      <p:stCondLst>
                        <p:cond delay="indefinite"/>
                      </p:stCondLst>
                      <p:childTnLst>
                        <p:par>
                          <p:cTn id="3301" fill="hold">
                            <p:stCondLst>
                              <p:cond delay="0"/>
                            </p:stCondLst>
                            <p:childTnLst>
                              <p:par>
                                <p:cTn id="3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4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3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9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0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3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17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8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22" dur="10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6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7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8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9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0" fill="hold">
                      <p:stCondLst>
                        <p:cond delay="indefinite"/>
                      </p:stCondLst>
                      <p:childTnLst>
                        <p:par>
                          <p:cTn id="3331" fill="hold">
                            <p:stCondLst>
                              <p:cond delay="0"/>
                            </p:stCondLst>
                            <p:childTnLst>
                              <p:par>
                                <p:cTn id="333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33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4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5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3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38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9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0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4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43" dur="8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4" dur="8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5" dur="8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4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457200" y="18288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تَظُنُّ أَنْ يُفْعَلَ بِ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اقِرَة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(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238880" y="3478320"/>
            <a:ext cx="10875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اقِر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623680" y="3478320"/>
            <a:ext cx="2545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قسم ظهره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029200" y="3478320"/>
            <a:ext cx="20574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صيبة صغي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85800" y="3478320"/>
            <a:ext cx="20574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كسر عنق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47" dur="indefinite" restart="never" nodeType="tmRoot">
          <p:childTnLst>
            <p:seq>
              <p:cTn id="3348" dur="indefinite" nodeType="mainSeq">
                <p:childTnLst>
                  <p:par>
                    <p:cTn id="3349" fill="hold">
                      <p:stCondLst>
                        <p:cond delay="0"/>
                      </p:stCondLst>
                      <p:childTnLst>
                        <p:par>
                          <p:cTn id="3350" fill="hold">
                            <p:stCondLst>
                              <p:cond delay="0"/>
                            </p:stCondLst>
                            <p:childTnLst>
                              <p:par>
                                <p:cTn id="33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3" dur="8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4" dur="8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5" dur="8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6" dur="8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60" dur="6270" fill="hold"/>
                                        <p:tgtEl>
                                          <p:spTgt spid="7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1" fill="hold">
                      <p:stCondLst>
                        <p:cond delay="indefinite"/>
                      </p:stCondLst>
                      <p:childTnLst>
                        <p:par>
                          <p:cTn id="3362" fill="hold">
                            <p:stCondLst>
                              <p:cond delay="0"/>
                            </p:stCondLst>
                            <p:childTnLst>
                              <p:par>
                                <p:cTn id="33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0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74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8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2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4" fill="hold">
                      <p:stCondLst>
                        <p:cond delay="indefinite"/>
                      </p:stCondLst>
                      <p:childTnLst>
                        <p:par>
                          <p:cTn id="3385" fill="hold">
                            <p:stCondLst>
                              <p:cond delay="0"/>
                            </p:stCondLst>
                            <p:childTnLst>
                              <p:par>
                                <p:cTn id="338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87" dur="8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8" dur="8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9" dur="8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9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92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3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4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9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457200" y="16765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كَلَّا إِذَا بَلَغَت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تَّرَاقِي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6915600" y="3657600"/>
            <a:ext cx="145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تَّرَاقِي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952880" y="3657600"/>
            <a:ext cx="18288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ظام الصد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971800" y="3657600"/>
            <a:ext cx="1690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رق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838080" y="3657600"/>
            <a:ext cx="1825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فرا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96" dur="indefinite" restart="never" nodeType="tmRoot">
          <p:childTnLst>
            <p:seq>
              <p:cTn id="3397" dur="indefinite" nodeType="mainSeq">
                <p:childTnLst>
                  <p:par>
                    <p:cTn id="3398" fill="hold">
                      <p:stCondLst>
                        <p:cond delay="0"/>
                      </p:stCondLst>
                      <p:childTnLst>
                        <p:par>
                          <p:cTn id="3399" fill="hold">
                            <p:stCondLst>
                              <p:cond delay="0"/>
                            </p:stCondLst>
                            <p:childTnLst>
                              <p:par>
                                <p:cTn id="34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2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3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4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06" dur="6270" fill="hold"/>
                                        <p:tgtEl>
                                          <p:spTgt spid="7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7" fill="hold">
                      <p:stCondLst>
                        <p:cond delay="indefinite"/>
                      </p:stCondLst>
                      <p:childTnLst>
                        <p:par>
                          <p:cTn id="3408" fill="hold">
                            <p:stCondLst>
                              <p:cond delay="0"/>
                            </p:stCondLst>
                            <p:childTnLst>
                              <p:par>
                                <p:cTn id="3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2" fill="hold">
                            <p:stCondLst>
                              <p:cond delay="500"/>
                            </p:stCondLst>
                            <p:childTnLst>
                              <p:par>
                                <p:cTn id="3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5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19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0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3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4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5" fill="hold">
                      <p:stCondLst>
                        <p:cond delay="indefinite"/>
                      </p:stCondLst>
                      <p:childTnLst>
                        <p:par>
                          <p:cTn id="3426" fill="hold">
                            <p:stCondLst>
                              <p:cond delay="0"/>
                            </p:stCondLst>
                            <p:childTnLst>
                              <p:par>
                                <p:cTn id="34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09480" y="19810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سَتُبْصِرُ وَيُبْصِر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ِأَيِّكُمُ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الْمَفْتُونُ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لم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: 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696360" y="3657600"/>
            <a:ext cx="1521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مَفْتُون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71800" y="3657600"/>
            <a:ext cx="1620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بتل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3657600"/>
            <a:ext cx="1584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عج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3657600"/>
            <a:ext cx="1695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خدو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1143000" y="2362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38080" y="4495680"/>
            <a:ext cx="7315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أنه إذا لم تكن مجنونا بل مدَّعي النبوة فسيظهر أمر دعوتك وينكش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على الابصار والبصائر من المبتلي بالجنون أنت أو المكذبون الرَّامون لك بالجنو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2" dur="7106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/>
          <p:nvPr/>
        </p:nvSpPr>
        <p:spPr>
          <a:xfrm>
            <a:off x="60948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قِيلَ مَن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رَاقٍ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يامة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ٍ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200400" y="34290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داو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371600" y="34290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اعد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105520" y="34290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احر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858000" y="342900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رَاقٍ</a:t>
            </a:r>
            <a:r>
              <a:rPr b="0" lang="en-US" sz="2800" spc="-1" strike="noStrike">
                <a:solidFill>
                  <a:srgbClr val="d002a4"/>
                </a:solidFill>
                <a:latin typeface="Arial"/>
                <a:ea typeface="Arial"/>
              </a:rPr>
              <a:t>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1" dur="indefinite" restart="never" nodeType="tmRoot">
          <p:childTnLst>
            <p:seq>
              <p:cTn id="3432" dur="indefinite" nodeType="mainSeq">
                <p:childTnLst>
                  <p:par>
                    <p:cTn id="3433" fill="hold">
                      <p:stCondLst>
                        <p:cond delay="0"/>
                      </p:stCondLst>
                      <p:childTnLst>
                        <p:par>
                          <p:cTn id="3434" fill="hold">
                            <p:stCondLst>
                              <p:cond delay="0"/>
                            </p:stCondLst>
                            <p:childTnLst>
                              <p:par>
                                <p:cTn id="34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7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8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9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41" dur="3762" fill="hold"/>
                                        <p:tgtEl>
                                          <p:spTgt spid="7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2" fill="hold">
                      <p:stCondLst>
                        <p:cond delay="indefinite"/>
                      </p:stCondLst>
                      <p:childTnLst>
                        <p:par>
                          <p:cTn id="3443" fill="hold">
                            <p:stCondLst>
                              <p:cond delay="0"/>
                            </p:stCondLst>
                            <p:childTnLst>
                              <p:par>
                                <p:cTn id="34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6" dur="8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7" dur="8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8" dur="8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9" dur="8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5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6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7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8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3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7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8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9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0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1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4" dur="5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5" dur="5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6" dur="5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7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8" fill="hold">
                      <p:stCondLst>
                        <p:cond delay="indefinite"/>
                      </p:stCondLst>
                      <p:childTnLst>
                        <p:par>
                          <p:cTn id="3479" fill="hold">
                            <p:stCondLst>
                              <p:cond delay="0"/>
                            </p:stCondLst>
                            <p:childTnLst>
                              <p:par>
                                <p:cTn id="34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81" dur="500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2" dur="500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85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6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89" dur="500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0" dur="500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33" name=""/>
          <p:cNvSpPr/>
          <p:nvPr/>
        </p:nvSpPr>
        <p:spPr>
          <a:xfrm>
            <a:off x="76212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ثُمَّ ذَهَبَ إِلَى أَهْلِه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َتَمَطّ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790680" y="3510000"/>
            <a:ext cx="1506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َتَمَطّ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ى</a:t>
            </a:r>
            <a:r>
              <a:rPr b="0" lang="en-US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757080" y="3505320"/>
            <a:ext cx="2096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تبختر ويختا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029200" y="3505320"/>
            <a:ext cx="16923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مشي بسر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747160" y="3510000"/>
            <a:ext cx="2381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تكاسل بمشيت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09480" y="4687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يتمطى : وهو تمدد البدن من الكسل وأصله أن يلوي مطاه أي ظهره ، والمراد بتمطيه في ذهابه التبختر والاختيال استعار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92" dur="indefinite" restart="never" nodeType="tmRoot">
          <p:childTnLst>
            <p:seq>
              <p:cTn id="3493" dur="indefinite" nodeType="mainSeq">
                <p:childTnLst>
                  <p:par>
                    <p:cTn id="3494" fill="hold">
                      <p:stCondLst>
                        <p:cond delay="0"/>
                      </p:stCondLst>
                      <p:childTnLst>
                        <p:par>
                          <p:cTn id="3495" fill="hold">
                            <p:stCondLst>
                              <p:cond delay="0"/>
                            </p:stCondLst>
                            <p:childTnLst>
                              <p:par>
                                <p:cTn id="34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1" dur="7419" fill="hold"/>
                                        <p:tgtEl>
                                          <p:spTgt spid="7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2" fill="hold">
                      <p:stCondLst>
                        <p:cond delay="indefinite"/>
                      </p:stCondLst>
                      <p:childTnLst>
                        <p:par>
                          <p:cTn id="3503" fill="hold">
                            <p:stCondLst>
                              <p:cond delay="0"/>
                            </p:stCondLst>
                            <p:childTnLst>
                              <p:par>
                                <p:cTn id="35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9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1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3" dur="8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4" dur="8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5" dur="8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6" dur="8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6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7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8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9" fill="hold">
                      <p:stCondLst>
                        <p:cond delay="indefinite"/>
                      </p:stCondLst>
                      <p:childTnLst>
                        <p:par>
                          <p:cTn id="3530" fill="hold">
                            <p:stCondLst>
                              <p:cond delay="0"/>
                            </p:stCondLst>
                            <p:childTnLst>
                              <p:par>
                                <p:cTn id="353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32" dur="8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3" dur="8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4" dur="8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37" dur="8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8" dur="8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9" dur="8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4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1" fill="hold">
                            <p:stCondLst>
                              <p:cond delay="520"/>
                            </p:stCondLst>
                            <p:childTnLst>
                              <p:par>
                                <p:cTn id="3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4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533520" y="20574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يَحْسَبُ الْأِنْسَانُ أَنْ يُتْرَك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سُدى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010280" y="381492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سُدى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029200" y="38098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هم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048120" y="3809880"/>
            <a:ext cx="1554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عذ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143000" y="3809880"/>
            <a:ext cx="1467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45" dur="indefinite" restart="never" nodeType="tmRoot">
          <p:childTnLst>
            <p:seq>
              <p:cTn id="3546" dur="indefinite" nodeType="mainSeq">
                <p:childTnLst>
                  <p:par>
                    <p:cTn id="3547" fill="hold">
                      <p:stCondLst>
                        <p:cond delay="0"/>
                      </p:stCondLst>
                      <p:childTnLst>
                        <p:par>
                          <p:cTn id="3548" fill="hold">
                            <p:stCondLst>
                              <p:cond delay="0"/>
                            </p:stCondLst>
                            <p:childTnLst>
                              <p:par>
                                <p:cTn id="354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53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55" dur="6845" fill="hold"/>
                                        <p:tgtEl>
                                          <p:spTgt spid="7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6" fill="hold">
                      <p:stCondLst>
                        <p:cond delay="indefinite"/>
                      </p:stCondLst>
                      <p:childTnLst>
                        <p:par>
                          <p:cTn id="3557" fill="hold">
                            <p:stCondLst>
                              <p:cond delay="0"/>
                            </p:stCondLst>
                            <p:childTnLst>
                              <p:par>
                                <p:cTn id="3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0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1" fill="hold">
                            <p:stCondLst>
                              <p:cond delay="500"/>
                            </p:stCondLst>
                            <p:childTnLst>
                              <p:par>
                                <p:cTn id="3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4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8" dur="8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9" dur="8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0" dur="8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1" dur="8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6" dur="8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7" dur="8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8" dur="8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9" dur="8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6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7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9" fill="hold">
                      <p:stCondLst>
                        <p:cond delay="indefinite"/>
                      </p:stCondLst>
                      <p:childTnLst>
                        <p:par>
                          <p:cTn id="3590" fill="hold">
                            <p:stCondLst>
                              <p:cond delay="0"/>
                            </p:stCondLst>
                            <p:childTnLst>
                              <p:par>
                                <p:cTn id="359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2" dur="10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3" dur="10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4" dur="10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7" dur="1000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8" dur="1000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9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1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602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" descr=""/>
          <p:cNvPicPr/>
          <p:nvPr/>
        </p:nvPicPr>
        <p:blipFill>
          <a:blip r:embed="rId1"/>
          <a:stretch/>
        </p:blipFill>
        <p:spPr>
          <a:xfrm>
            <a:off x="-304920" y="-7632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533520" y="182880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ا خَلَقْنَا الْأِنْسَانَ مِنْ نُطْفَة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َمْشَاج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نَبْتَلِيهِ فَجَعَلْنَاهُ سَمِيعاً بَصِي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انس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858000" y="38862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َمْشَاج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81320" y="3886200"/>
            <a:ext cx="2312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خلاط ممزوج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876920" y="3886200"/>
            <a:ext cx="18381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دماء ممزوجة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743200" y="3886200"/>
            <a:ext cx="19810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شكال مختلفة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5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04" dur="indefinite" restart="never" nodeType="tmRoot">
          <p:childTnLst>
            <p:seq>
              <p:cTn id="3605" dur="indefinite" nodeType="mainSeq">
                <p:childTnLst>
                  <p:par>
                    <p:cTn id="3606" fill="hold">
                      <p:stCondLst>
                        <p:cond delay="0"/>
                      </p:stCondLst>
                      <p:childTnLst>
                        <p:par>
                          <p:cTn id="3607" fill="hold">
                            <p:stCondLst>
                              <p:cond delay="0"/>
                            </p:stCondLst>
                            <p:childTnLst>
                              <p:par>
                                <p:cTn id="360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3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19" dur="15517" fill="hold"/>
                                        <p:tgtEl>
                                          <p:spTgt spid="7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0" fill="hold">
                      <p:stCondLst>
                        <p:cond delay="indefinite"/>
                      </p:stCondLst>
                      <p:childTnLst>
                        <p:par>
                          <p:cTn id="3621" fill="hold">
                            <p:stCondLst>
                              <p:cond delay="0"/>
                            </p:stCondLst>
                            <p:childTnLst>
                              <p:par>
                                <p:cTn id="36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26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1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5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6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4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1" fill="hold">
                      <p:stCondLst>
                        <p:cond delay="indefinite"/>
                      </p:stCondLst>
                      <p:childTnLst>
                        <p:par>
                          <p:cTn id="3642" fill="hold">
                            <p:stCondLst>
                              <p:cond delay="0"/>
                            </p:stCondLst>
                            <p:childTnLst>
                              <p:par>
                                <p:cTn id="36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61" name=""/>
          <p:cNvSpPr/>
          <p:nvPr/>
        </p:nvSpPr>
        <p:spPr>
          <a:xfrm>
            <a:off x="1295280" y="160020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إِنَّ الْأَبْرَارَ يَشْرَبُونَ مِنْ كَأْسٍ كَان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ِزَاجُهَ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كَافُو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انس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958800" y="3581280"/>
            <a:ext cx="1355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ِزَاجُهَ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105520" y="3586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زيج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048120" y="3586320"/>
            <a:ext cx="1650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طعم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143000" y="3586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رائحت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47" dur="indefinite" restart="never" nodeType="tmRoot">
          <p:childTnLst>
            <p:seq>
              <p:cTn id="3648" dur="indefinite" nodeType="mainSeq">
                <p:childTnLst>
                  <p:par>
                    <p:cTn id="3649" fill="hold">
                      <p:stCondLst>
                        <p:cond delay="0"/>
                      </p:stCondLst>
                      <p:childTnLst>
                        <p:par>
                          <p:cTn id="3650" fill="hold">
                            <p:stCondLst>
                              <p:cond delay="0"/>
                            </p:stCondLst>
                            <p:childTnLst>
                              <p:par>
                                <p:cTn id="365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55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57" dur="11547" fill="hold"/>
                                        <p:tgtEl>
                                          <p:spTgt spid="7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8" fill="hold">
                      <p:stCondLst>
                        <p:cond delay="indefinite"/>
                      </p:stCondLst>
                      <p:childTnLst>
                        <p:par>
                          <p:cTn id="3659" fill="hold">
                            <p:stCondLst>
                              <p:cond delay="0"/>
                            </p:stCondLst>
                            <p:childTnLst>
                              <p:par>
                                <p:cTn id="3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2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6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0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1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4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5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6" fill="hold">
                      <p:stCondLst>
                        <p:cond delay="indefinite"/>
                      </p:stCondLst>
                      <p:childTnLst>
                        <p:par>
                          <p:cTn id="3677" fill="hold">
                            <p:stCondLst>
                              <p:cond delay="0"/>
                            </p:stCondLst>
                            <p:childTnLst>
                              <p:par>
                                <p:cTn id="36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>
            <a:off x="838080" y="17524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وفون بالنذر ويخافون يوما كان شره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مستطيرا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( الإنسان :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7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713280" y="3586320"/>
            <a:ext cx="1686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مستطيرا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952880" y="35812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تش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895480" y="35812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كبي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066680" y="3581280"/>
            <a:ext cx="1430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محتو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7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82" dur="indefinite" restart="never" nodeType="tmRoot">
          <p:childTnLst>
            <p:seq>
              <p:cTn id="3683" dur="indefinite" nodeType="mainSeq">
                <p:childTnLst>
                  <p:par>
                    <p:cTn id="3684" fill="hold">
                      <p:stCondLst>
                        <p:cond delay="0"/>
                      </p:stCondLst>
                      <p:childTnLst>
                        <p:par>
                          <p:cTn id="3685" fill="hold">
                            <p:stCondLst>
                              <p:cond delay="0"/>
                            </p:stCondLst>
                            <p:childTnLst>
                              <p:par>
                                <p:cTn id="36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9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91" dur="11048" fill="hold"/>
                                        <p:tgtEl>
                                          <p:spTgt spid="7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2" fill="hold">
                      <p:stCondLst>
                        <p:cond delay="indefinite"/>
                      </p:stCondLst>
                      <p:childTnLst>
                        <p:par>
                          <p:cTn id="3693" fill="hold">
                            <p:stCondLst>
                              <p:cond delay="0"/>
                            </p:stCondLst>
                            <p:childTnLst>
                              <p:par>
                                <p:cTn id="3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6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7" fill="hold">
                            <p:stCondLst>
                              <p:cond delay="500"/>
                            </p:stCondLst>
                            <p:childTnLst>
                              <p:par>
                                <p:cTn id="36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0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4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5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0" fill="hold">
                      <p:stCondLst>
                        <p:cond delay="indefinite"/>
                      </p:stCondLst>
                      <p:childTnLst>
                        <p:par>
                          <p:cTn id="3711" fill="hold">
                            <p:stCondLst>
                              <p:cond delay="0"/>
                            </p:stCondLst>
                            <p:childTnLst>
                              <p:par>
                                <p:cTn id="371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3" dur="1000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4" dur="1000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5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8" dur="1000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9" dur="1000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0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79" name=""/>
          <p:cNvSpPr/>
          <p:nvPr/>
        </p:nvSpPr>
        <p:spPr>
          <a:xfrm>
            <a:off x="1447920" y="175248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ا نَخَافُ مِنْ رَبِّنَا يَوْماً عَبُوسا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مْطَرِي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انس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722640" y="3706920"/>
            <a:ext cx="1675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مْطَرِير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124080" y="37386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دي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029200" y="37386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سوداً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219320" y="3738600"/>
            <a:ext cx="1496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غائ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86" name="" descr=""/>
          <p:cNvPicPr/>
          <p:nvPr/>
        </p:nvPicPr>
        <p:blipFill>
          <a:blip r:embed="rId3"/>
          <a:stretch/>
        </p:blipFill>
        <p:spPr>
          <a:xfrm>
            <a:off x="289548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22" dur="indefinite" restart="never" nodeType="tmRoot">
          <p:childTnLst>
            <p:seq>
              <p:cTn id="3723" dur="indefinite" nodeType="mainSeq">
                <p:childTnLst>
                  <p:par>
                    <p:cTn id="3724" fill="hold">
                      <p:stCondLst>
                        <p:cond delay="0"/>
                      </p:stCondLst>
                      <p:childTnLst>
                        <p:par>
                          <p:cTn id="3725" fill="hold">
                            <p:stCondLst>
                              <p:cond delay="0"/>
                            </p:stCondLst>
                            <p:childTnLst>
                              <p:par>
                                <p:cTn id="372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8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1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33" dur="10084" fill="hold"/>
                                        <p:tgtEl>
                                          <p:spTgt spid="7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4" fill="hold">
                      <p:stCondLst>
                        <p:cond delay="indefinite"/>
                      </p:stCondLst>
                      <p:childTnLst>
                        <p:par>
                          <p:cTn id="3735" fill="hold">
                            <p:stCondLst>
                              <p:cond delay="0"/>
                            </p:stCondLst>
                            <p:childTnLst>
                              <p:par>
                                <p:cTn id="37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38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9" fill="hold">
                            <p:stCondLst>
                              <p:cond delay="500"/>
                            </p:stCondLst>
                            <p:childTnLst>
                              <p:par>
                                <p:cTn id="37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42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6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7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1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3" fill="hold">
                      <p:stCondLst>
                        <p:cond delay="indefinite"/>
                      </p:stCondLst>
                      <p:childTnLst>
                        <p:par>
                          <p:cTn id="3754" fill="hold">
                            <p:stCondLst>
                              <p:cond delay="0"/>
                            </p:stCondLst>
                            <p:childTnLst>
                              <p:par>
                                <p:cTn id="375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756" dur="8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7" dur="8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8" dur="8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75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761" dur="8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2" dur="8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3" dur="8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76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1523880" y="1676520"/>
            <a:ext cx="58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دَانِيَة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عَلَيْهِمْ ظِلالُ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ذُلِّلَتْ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ُطُوفُهَا تَذْلِيل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انس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781680" y="3352680"/>
            <a:ext cx="1295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دَانِيَة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781680" y="4419720"/>
            <a:ext cx="1295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ذُلِّل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990720" y="33526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ري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4800600" y="3357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ظل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895480" y="3352680"/>
            <a:ext cx="1582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وية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800600" y="4419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سُخِرت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814840" y="4419720"/>
            <a:ext cx="1785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وطابت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990720" y="4419720"/>
            <a:ext cx="1536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سَهُل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99" name="" descr=""/>
          <p:cNvPicPr/>
          <p:nvPr/>
        </p:nvPicPr>
        <p:blipFill>
          <a:blip r:embed="rId3"/>
          <a:stretch/>
        </p:blipFill>
        <p:spPr>
          <a:xfrm>
            <a:off x="4419720" y="2743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65" dur="indefinite" restart="never" nodeType="tmRoot">
          <p:childTnLst>
            <p:seq>
              <p:cTn id="3766" dur="indefinite" nodeType="mainSeq">
                <p:childTnLst>
                  <p:par>
                    <p:cTn id="3767" fill="hold">
                      <p:stCondLst>
                        <p:cond delay="0"/>
                      </p:stCondLst>
                      <p:childTnLst>
                        <p:par>
                          <p:cTn id="3768" fill="hold">
                            <p:stCondLst>
                              <p:cond delay="0"/>
                            </p:stCondLst>
                            <p:childTnLst>
                              <p:par>
                                <p:cTn id="37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1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2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3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75" dur="10345" fill="hold"/>
                                        <p:tgtEl>
                                          <p:spTgt spid="7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6" fill="hold">
                      <p:stCondLst>
                        <p:cond delay="indefinite"/>
                      </p:stCondLst>
                      <p:childTnLst>
                        <p:par>
                          <p:cTn id="3777" fill="hold">
                            <p:stCondLst>
                              <p:cond delay="0"/>
                            </p:stCondLst>
                            <p:childTnLst>
                              <p:par>
                                <p:cTn id="37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0" dur="8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1" dur="8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2" dur="8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3" dur="8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9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0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1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2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3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6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7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1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2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3" fill="hold">
                      <p:stCondLst>
                        <p:cond delay="indefinite"/>
                      </p:stCondLst>
                      <p:childTnLst>
                        <p:par>
                          <p:cTn id="3804" fill="hold">
                            <p:stCondLst>
                              <p:cond delay="0"/>
                            </p:stCondLst>
                            <p:childTnLst>
                              <p:par>
                                <p:cTn id="380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806" dur="8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7" dur="8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8" dur="8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811" dur="8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2" dur="8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3" dur="8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1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5" fill="hold">
                            <p:stCondLst>
                              <p:cond delay="280"/>
                            </p:stCondLst>
                            <p:childTnLst>
                              <p:par>
                                <p:cTn id="38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9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0" fill="hold">
                            <p:stCondLst>
                              <p:cond delay="780"/>
                            </p:stCondLst>
                            <p:childTnLst>
                              <p:par>
                                <p:cTn id="38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23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4" fill="hold">
                            <p:stCondLst>
                              <p:cond delay="1280"/>
                            </p:stCondLst>
                            <p:childTnLst>
                              <p:par>
                                <p:cTn id="38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9" fill="hold">
                            <p:stCondLst>
                              <p:cond delay="1780"/>
                            </p:stCondLst>
                            <p:childTnLst>
                              <p:par>
                                <p:cTn id="38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2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3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4" fill="hold">
                      <p:stCondLst>
                        <p:cond delay="indefinite"/>
                      </p:stCondLst>
                      <p:childTnLst>
                        <p:par>
                          <p:cTn id="3835" fill="hold">
                            <p:stCondLst>
                              <p:cond delay="0"/>
                            </p:stCondLst>
                            <p:childTnLst>
                              <p:par>
                                <p:cTn id="383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7" dur="10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8" dur="10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9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2" dur="100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3" dur="100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4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1219320" y="144792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يُطَافُ عَلَيْهِمْ بِآنِيَةٍ مِنْ فِضَّةٍ وَأَكْوَابٍ كَانَت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وَارِيرَا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انس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394320" y="3200400"/>
            <a:ext cx="1530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وَارِيرَ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590920" y="4043520"/>
            <a:ext cx="3124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وعية من زجا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590920" y="3200400"/>
            <a:ext cx="3139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رار من فخار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514600" y="4876920"/>
            <a:ext cx="3200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أكواب من زجا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08" name="" descr=""/>
          <p:cNvPicPr/>
          <p:nvPr/>
        </p:nvPicPr>
        <p:blipFill>
          <a:blip r:embed="rId3"/>
          <a:stretch/>
        </p:blipFill>
        <p:spPr>
          <a:xfrm>
            <a:off x="4419720" y="2590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46" dur="indefinite" restart="never" nodeType="tmRoot">
          <p:childTnLst>
            <p:seq>
              <p:cTn id="3847" dur="indefinite" nodeType="mainSeq">
                <p:childTnLst>
                  <p:par>
                    <p:cTn id="3848" fill="hold">
                      <p:stCondLst>
                        <p:cond delay="0"/>
                      </p:stCondLst>
                      <p:childTnLst>
                        <p:par>
                          <p:cTn id="3849" fill="hold">
                            <p:stCondLst>
                              <p:cond delay="0"/>
                            </p:stCondLst>
                            <p:childTnLst>
                              <p:par>
                                <p:cTn id="38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2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55" dur="14368" fill="hold"/>
                                        <p:tgtEl>
                                          <p:spTgt spid="8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6" fill="hold">
                      <p:stCondLst>
                        <p:cond delay="indefinite"/>
                      </p:stCondLst>
                      <p:childTnLst>
                        <p:par>
                          <p:cTn id="3857" fill="hold">
                            <p:stCondLst>
                              <p:cond delay="0"/>
                            </p:stCondLst>
                            <p:childTnLst>
                              <p:par>
                                <p:cTn id="38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0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1" fill="hold">
                            <p:stCondLst>
                              <p:cond delay="500"/>
                            </p:stCondLst>
                            <p:childTnLst>
                              <p:par>
                                <p:cTn id="386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5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6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7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1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2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3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4" dur="50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5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80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1" fill="hold">
                            <p:stCondLst>
                              <p:cond delay="2500"/>
                            </p:stCondLst>
                            <p:childTnLst>
                              <p:par>
                                <p:cTn id="3882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5" fill="hold">
                      <p:stCondLst>
                        <p:cond delay="indefinite"/>
                      </p:stCondLst>
                      <p:childTnLst>
                        <p:par>
                          <p:cTn id="3886" fill="hold">
                            <p:stCondLst>
                              <p:cond delay="0"/>
                            </p:stCondLst>
                            <p:childTnLst>
                              <p:par>
                                <p:cTn id="388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888" dur="8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9" dur="8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0" dur="8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9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893" dur="8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4" dur="8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5" dur="8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9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898" dur="8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9" dur="8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0" dur="8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90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10" name=""/>
          <p:cNvSpPr/>
          <p:nvPr/>
        </p:nvSpPr>
        <p:spPr>
          <a:xfrm>
            <a:off x="53352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الْمُرْسَلات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ُرْف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934320" y="349416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ُرْف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105520" y="35100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تاب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819520" y="3505320"/>
            <a:ext cx="2052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فرادى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838080" y="350532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990720" y="4511520"/>
            <a:ext cx="701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عرف : أي الشعر النابت على عنق الفرس ، وشبه الملائكة وه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تتابع بالوحي كعرف الفرس وهو يجري بتتابعها ويقال جاؤوا كعرف الفر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1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02" dur="indefinite" restart="never" nodeType="tmRoot">
          <p:childTnLst>
            <p:seq>
              <p:cTn id="3903" dur="indefinite" nodeType="mainSeq">
                <p:childTnLst>
                  <p:par>
                    <p:cTn id="3904" fill="hold">
                      <p:stCondLst>
                        <p:cond delay="0"/>
                      </p:stCondLst>
                      <p:childTnLst>
                        <p:par>
                          <p:cTn id="3905" fill="hold">
                            <p:stCondLst>
                              <p:cond delay="0"/>
                            </p:stCondLst>
                            <p:childTnLst>
                              <p:par>
                                <p:cTn id="39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8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10" dur="3553" fill="hold"/>
                                        <p:tgtEl>
                                          <p:spTgt spid="8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1" fill="hold">
                      <p:stCondLst>
                        <p:cond delay="indefinite"/>
                      </p:stCondLst>
                      <p:childTnLst>
                        <p:par>
                          <p:cTn id="3912" fill="hold">
                            <p:stCondLst>
                              <p:cond delay="0"/>
                            </p:stCondLst>
                            <p:childTnLst>
                              <p:par>
                                <p:cTn id="3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5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6" fill="hold">
                            <p:stCondLst>
                              <p:cond delay="500"/>
                            </p:stCondLst>
                            <p:childTnLst>
                              <p:par>
                                <p:cTn id="39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21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2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25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9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0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1" fill="hold">
                      <p:stCondLst>
                        <p:cond delay="indefinite"/>
                      </p:stCondLst>
                      <p:childTnLst>
                        <p:par>
                          <p:cTn id="3932" fill="hold">
                            <p:stCondLst>
                              <p:cond delay="0"/>
                            </p:stCondLst>
                            <p:childTnLst>
                              <p:par>
                                <p:cTn id="39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7" fill="hold">
                            <p:stCondLst>
                              <p:cond delay="0"/>
                            </p:stCondLst>
                            <p:childTnLst>
                              <p:par>
                                <p:cTn id="39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40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523880" y="19051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ا تُطِعْ كُلَّ حَلَّافٍ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مَهِين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3809880"/>
            <a:ext cx="1325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هِين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38098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ق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0400" y="3809880"/>
            <a:ext cx="1519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كاذ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3809880"/>
            <a:ext cx="1460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عي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1" dur="5695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3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20" name=""/>
          <p:cNvSpPr/>
          <p:nvPr/>
        </p:nvSpPr>
        <p:spPr>
          <a:xfrm>
            <a:off x="533520" y="16765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الْعَاصِفَات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َصْف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629400" y="350532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َصْف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507920" y="3505320"/>
            <a:ext cx="2003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رعة الس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531160" y="3505320"/>
            <a:ext cx="2178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شدة الصو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44680" y="3505320"/>
            <a:ext cx="2165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تراكم الغيو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-13320" y="4495680"/>
            <a:ext cx="905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عصفا : المراد بالعصف سرعة السير إستعارة من عصف الريح أي سرع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هبوبها إشارة إلى سرعة سيرها إلى ما أرسلت إليه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2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41" dur="indefinite" restart="never" nodeType="tmRoot">
          <p:childTnLst>
            <p:seq>
              <p:cTn id="3942" dur="indefinite" nodeType="mainSeq">
                <p:childTnLst>
                  <p:par>
                    <p:cTn id="3943" fill="hold">
                      <p:stCondLst>
                        <p:cond delay="0"/>
                      </p:stCondLst>
                      <p:childTnLst>
                        <p:par>
                          <p:cTn id="3944" fill="hold">
                            <p:stCondLst>
                              <p:cond delay="0"/>
                            </p:stCondLst>
                            <p:childTnLst>
                              <p:par>
                                <p:cTn id="39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49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51" dur="3396" fill="hold"/>
                                        <p:tgtEl>
                                          <p:spTgt spid="8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2" fill="hold">
                      <p:stCondLst>
                        <p:cond delay="indefinite"/>
                      </p:stCondLst>
                      <p:childTnLst>
                        <p:par>
                          <p:cTn id="3953" fill="hold">
                            <p:stCondLst>
                              <p:cond delay="0"/>
                            </p:stCondLst>
                            <p:childTnLst>
                              <p:par>
                                <p:cTn id="3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7" fill="hold">
                            <p:stCondLst>
                              <p:cond delay="500"/>
                            </p:stCondLst>
                            <p:childTnLst>
                              <p:par>
                                <p:cTn id="39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0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1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2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3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67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1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2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3" fill="hold">
                      <p:stCondLst>
                        <p:cond delay="indefinite"/>
                      </p:stCondLst>
                      <p:childTnLst>
                        <p:par>
                          <p:cTn id="3974" fill="hold">
                            <p:stCondLst>
                              <p:cond delay="0"/>
                            </p:stCondLst>
                            <p:childTnLst>
                              <p:par>
                                <p:cTn id="39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9" fill="hold">
                            <p:stCondLst>
                              <p:cond delay="0"/>
                            </p:stCondLst>
                            <p:childTnLst>
                              <p:par>
                                <p:cTn id="39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2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30" name=""/>
          <p:cNvSpPr/>
          <p:nvPr/>
        </p:nvSpPr>
        <p:spPr>
          <a:xfrm>
            <a:off x="533520" y="19810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لنَّاشِرَات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نَشْ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429600" y="3048120"/>
            <a:ext cx="1899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لنَّاشِرَات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676520" y="3733920"/>
            <a:ext cx="4190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شرات الصح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676520" y="3052800"/>
            <a:ext cx="4190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قلات الكلا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676520" y="4419720"/>
            <a:ext cx="4190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املات خبر المو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969120" y="5257800"/>
            <a:ext cx="74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والناشرات : أي وقسماً بالملائكة الناشرين لصحف الوحي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38" name="" descr=""/>
          <p:cNvPicPr/>
          <p:nvPr/>
        </p:nvPicPr>
        <p:blipFill>
          <a:blip r:embed="rId3"/>
          <a:stretch/>
        </p:blipFill>
        <p:spPr>
          <a:xfrm>
            <a:off x="1828800" y="1905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83" dur="indefinite" restart="never" nodeType="tmRoot">
          <p:childTnLst>
            <p:seq>
              <p:cTn id="3984" dur="indefinite" nodeType="mainSeq">
                <p:childTnLst>
                  <p:par>
                    <p:cTn id="3985" fill="hold">
                      <p:stCondLst>
                        <p:cond delay="0"/>
                      </p:stCondLst>
                      <p:childTnLst>
                        <p:par>
                          <p:cTn id="3986" fill="hold">
                            <p:stCondLst>
                              <p:cond delay="0"/>
                            </p:stCondLst>
                            <p:childTnLst>
                              <p:par>
                                <p:cTn id="39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9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0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92" dur="4022" fill="hold"/>
                                        <p:tgtEl>
                                          <p:spTgt spid="8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3" fill="hold">
                      <p:stCondLst>
                        <p:cond delay="indefinite"/>
                      </p:stCondLst>
                      <p:childTnLst>
                        <p:par>
                          <p:cTn id="3994" fill="hold">
                            <p:stCondLst>
                              <p:cond delay="0"/>
                            </p:stCondLst>
                            <p:childTnLst>
                              <p:par>
                                <p:cTn id="3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7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1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2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06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7" fill="hold">
                            <p:stCondLst>
                              <p:cond delay="1500"/>
                            </p:stCondLst>
                            <p:childTnLst>
                              <p:par>
                                <p:cTn id="40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0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1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2" fill="hold">
                      <p:stCondLst>
                        <p:cond delay="indefinite"/>
                      </p:stCondLst>
                      <p:childTnLst>
                        <p:par>
                          <p:cTn id="4013" fill="hold">
                            <p:stCondLst>
                              <p:cond delay="0"/>
                            </p:stCondLst>
                            <p:childTnLst>
                              <p:par>
                                <p:cTn id="401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015" dur="8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6" dur="8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7" dur="8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01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020" dur="8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21" dur="8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2" dur="8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02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4" fill="hold">
                            <p:stCondLst>
                              <p:cond delay="600"/>
                            </p:stCondLst>
                            <p:childTnLst>
                              <p:par>
                                <p:cTn id="40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7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40" name=""/>
          <p:cNvSpPr/>
          <p:nvPr/>
        </p:nvSpPr>
        <p:spPr>
          <a:xfrm>
            <a:off x="380880" y="16765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الْفَارِقَات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َرْق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526800" y="3630600"/>
            <a:ext cx="1835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الْفَارِقَات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952880" y="3630600"/>
            <a:ext cx="15242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فرقات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971800" y="3630600"/>
            <a:ext cx="1676520" cy="13737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المتفرق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074600" y="3630600"/>
            <a:ext cx="1592280" cy="13737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المختلف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7600" y="4687920"/>
            <a:ext cx="86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فارقات : المراد به التفريق بين الحق والباطل وبين الحلال والحرا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4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28" dur="indefinite" restart="never" nodeType="tmRoot">
          <p:childTnLst>
            <p:seq>
              <p:cTn id="4029" dur="indefinite" nodeType="mainSeq">
                <p:childTnLst>
                  <p:par>
                    <p:cTn id="4030" fill="hold">
                      <p:stCondLst>
                        <p:cond delay="0"/>
                      </p:stCondLst>
                      <p:childTnLst>
                        <p:par>
                          <p:cTn id="4031" fill="hold">
                            <p:stCondLst>
                              <p:cond delay="0"/>
                            </p:stCondLst>
                            <p:childTnLst>
                              <p:par>
                                <p:cTn id="40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4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5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6" dur="1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38" dur="3553" fill="hold"/>
                                        <p:tgtEl>
                                          <p:spTgt spid="8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9" fill="hold">
                      <p:stCondLst>
                        <p:cond delay="indefinite"/>
                      </p:stCondLst>
                      <p:childTnLst>
                        <p:par>
                          <p:cTn id="4040" fill="hold">
                            <p:stCondLst>
                              <p:cond delay="0"/>
                            </p:stCondLst>
                            <p:childTnLst>
                              <p:par>
                                <p:cTn id="40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3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4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5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6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7" fill="hold">
                            <p:stCondLst>
                              <p:cond delay="500"/>
                            </p:stCondLst>
                            <p:childTnLst>
                              <p:par>
                                <p:cTn id="40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0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1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55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6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61" dur="1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2" fill="hold">
                      <p:stCondLst>
                        <p:cond delay="indefinite"/>
                      </p:stCondLst>
                      <p:childTnLst>
                        <p:par>
                          <p:cTn id="4063" fill="hold">
                            <p:stCondLst>
                              <p:cond delay="0"/>
                            </p:stCondLst>
                            <p:childTnLst>
                              <p:par>
                                <p:cTn id="40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8" fill="hold">
                            <p:stCondLst>
                              <p:cond delay="0"/>
                            </p:stCondLst>
                            <p:childTnLst>
                              <p:par>
                                <p:cTn id="40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1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50" name=""/>
          <p:cNvSpPr/>
          <p:nvPr/>
        </p:nvSpPr>
        <p:spPr>
          <a:xfrm>
            <a:off x="53352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إِذَا النُّجُوم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طُمِس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6873840" y="3554280"/>
            <a:ext cx="1532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طُمِس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1143000" y="3554280"/>
            <a:ext cx="1633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حيَّ أثر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5181480" y="35542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نفجر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200400" y="3554280"/>
            <a:ext cx="1600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سقطت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5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72" dur="indefinite" restart="never" nodeType="tmRoot">
          <p:childTnLst>
            <p:seq>
              <p:cTn id="4073" dur="indefinite" nodeType="mainSeq">
                <p:childTnLst>
                  <p:par>
                    <p:cTn id="4074" fill="hold">
                      <p:stCondLst>
                        <p:cond delay="0"/>
                      </p:stCondLst>
                      <p:childTnLst>
                        <p:par>
                          <p:cTn id="4075" fill="hold">
                            <p:stCondLst>
                              <p:cond delay="0"/>
                            </p:stCondLst>
                            <p:childTnLst>
                              <p:par>
                                <p:cTn id="407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1" dur="1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87" dur="3867" fill="hold"/>
                                        <p:tgtEl>
                                          <p:spTgt spid="8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8" fill="hold">
                      <p:stCondLst>
                        <p:cond delay="indefinite"/>
                      </p:stCondLst>
                      <p:childTnLst>
                        <p:par>
                          <p:cTn id="4089" fill="hold">
                            <p:stCondLst>
                              <p:cond delay="0"/>
                            </p:stCondLst>
                            <p:childTnLst>
                              <p:par>
                                <p:cTn id="40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2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3" fill="hold">
                            <p:stCondLst>
                              <p:cond delay="500"/>
                            </p:stCondLst>
                            <p:childTnLst>
                              <p:par>
                                <p:cTn id="409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6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7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8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9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3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4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5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6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8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0" dur="500" fill="hold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1" dur="500" fill="hold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2" dur="500" fill="hold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3" dur="50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7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8" fill="hold">
                      <p:stCondLst>
                        <p:cond delay="indefinite"/>
                      </p:stCondLst>
                      <p:childTnLst>
                        <p:par>
                          <p:cTn id="4119" fill="hold">
                            <p:stCondLst>
                              <p:cond delay="0"/>
                            </p:stCondLst>
                            <p:childTnLst>
                              <p:par>
                                <p:cTn id="412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121" dur="8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2" dur="8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3" dur="8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12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126" dur="8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7" dur="8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8" dur="8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12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131" dur="80"/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2" dur="80"/>
                                        <p:tgtEl>
                                          <p:spTgt spid="8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3" dur="80"/>
                                        <p:tgtEl>
                                          <p:spTgt spid="8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13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59" name=""/>
          <p:cNvSpPr/>
          <p:nvPr/>
        </p:nvSpPr>
        <p:spPr>
          <a:xfrm>
            <a:off x="457200" y="16765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إِذَا السَّمَاء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ُرِجَتْ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869880" y="3510000"/>
            <a:ext cx="1312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ُرِج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200400" y="3505320"/>
            <a:ext cx="154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نشق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029200" y="35053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رفعت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295280" y="35053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نسف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6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35" dur="indefinite" restart="never" nodeType="tmRoot">
          <p:childTnLst>
            <p:seq>
              <p:cTn id="4136" dur="indefinite" nodeType="mainSeq">
                <p:childTnLst>
                  <p:par>
                    <p:cTn id="4137" fill="hold">
                      <p:stCondLst>
                        <p:cond delay="0"/>
                      </p:stCondLst>
                      <p:childTnLst>
                        <p:par>
                          <p:cTn id="4138" fill="hold">
                            <p:stCondLst>
                              <p:cond delay="0"/>
                            </p:stCondLst>
                            <p:childTnLst>
                              <p:par>
                                <p:cTn id="41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1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2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44" dur="4494" fill="hold"/>
                                        <p:tgtEl>
                                          <p:spTgt spid="8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5" fill="hold">
                      <p:stCondLst>
                        <p:cond delay="indefinite"/>
                      </p:stCondLst>
                      <p:childTnLst>
                        <p:par>
                          <p:cTn id="4146" fill="hold">
                            <p:stCondLst>
                              <p:cond delay="0"/>
                            </p:stCondLst>
                            <p:childTnLst>
                              <p:par>
                                <p:cTn id="41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2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0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3" dur="5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41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7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8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9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0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4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5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6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7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8" fill="hold">
                      <p:stCondLst>
                        <p:cond delay="indefinite"/>
                      </p:stCondLst>
                      <p:childTnLst>
                        <p:par>
                          <p:cTn id="4179" fill="hold">
                            <p:stCondLst>
                              <p:cond delay="0"/>
                            </p:stCondLst>
                            <p:childTnLst>
                              <p:par>
                                <p:cTn id="41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68" name=""/>
          <p:cNvSpPr/>
          <p:nvPr/>
        </p:nvSpPr>
        <p:spPr>
          <a:xfrm>
            <a:off x="457200" y="18288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إِذَا الرُّسُل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ُقِّت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238880" y="3357720"/>
            <a:ext cx="1067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ُقِّت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768560" y="3352680"/>
            <a:ext cx="2436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رجع بها الوقت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819520" y="3352680"/>
            <a:ext cx="20286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ين لها الوق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85800" y="3357720"/>
            <a:ext cx="20257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ار بها الوق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037880" y="4687920"/>
            <a:ext cx="70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عين لها الوقت الذي تحضر فيه للشهادة على الأمم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76" name="" descr=""/>
          <p:cNvPicPr/>
          <p:nvPr/>
        </p:nvPicPr>
        <p:blipFill>
          <a:blip r:embed="rId3"/>
          <a:stretch/>
        </p:blipFill>
        <p:spPr>
          <a:xfrm>
            <a:off x="4419720" y="2666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86" dur="indefinite" restart="never" nodeType="tmRoot">
          <p:childTnLst>
            <p:seq>
              <p:cTn id="4187" dur="indefinite" nodeType="mainSeq">
                <p:childTnLst>
                  <p:par>
                    <p:cTn id="4188" fill="hold">
                      <p:stCondLst>
                        <p:cond delay="0"/>
                      </p:stCondLst>
                      <p:childTnLst>
                        <p:par>
                          <p:cTn id="4189" fill="hold">
                            <p:stCondLst>
                              <p:cond delay="0"/>
                            </p:stCondLst>
                            <p:childTnLst>
                              <p:par>
                                <p:cTn id="419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94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96" dur="3396" fill="hold"/>
                                        <p:tgtEl>
                                          <p:spTgt spid="8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7" fill="hold">
                      <p:stCondLst>
                        <p:cond delay="indefinite"/>
                      </p:stCondLst>
                      <p:childTnLst>
                        <p:par>
                          <p:cTn id="4198" fill="hold">
                            <p:stCondLst>
                              <p:cond delay="0"/>
                            </p:stCondLst>
                            <p:childTnLst>
                              <p:par>
                                <p:cTn id="41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1" dur="8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2" dur="8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3" dur="8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4" dur="8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0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1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2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3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6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7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8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9" dur="500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0" fill="hold">
                            <p:stCondLst>
                              <p:cond delay="1500"/>
                            </p:stCondLst>
                            <p:childTnLst>
                              <p:par>
                                <p:cTn id="42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3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4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8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1" dur="500"/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2" fill="hold">
                      <p:stCondLst>
                        <p:cond delay="indefinite"/>
                      </p:stCondLst>
                      <p:childTnLst>
                        <p:par>
                          <p:cTn id="4233" fill="hold">
                            <p:stCondLst>
                              <p:cond delay="0"/>
                            </p:stCondLst>
                            <p:childTnLst>
                              <p:par>
                                <p:cTn id="42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2" fill="hold">
                            <p:stCondLst>
                              <p:cond delay="0"/>
                            </p:stCondLst>
                            <p:childTnLst>
                              <p:par>
                                <p:cTn id="4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5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78" name=""/>
          <p:cNvSpPr/>
          <p:nvPr/>
        </p:nvSpPr>
        <p:spPr>
          <a:xfrm>
            <a:off x="380880" y="12952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لَمْ نَخْلُقْكُمْ مِنْ مَاء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هِينٍ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جَعَلْنَاهُ فِي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رَارٍ مَكِين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رسلات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20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2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705720" y="41911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كِين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124080" y="41958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هولٍ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5029200" y="41911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يقٍ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066680" y="4191120"/>
            <a:ext cx="1656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كن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705720" y="34020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رَار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029200" y="34336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قر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124080" y="3429000"/>
            <a:ext cx="1492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خوف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1066680" y="3429000"/>
            <a:ext cx="1627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جهل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914400" y="5029200"/>
            <a:ext cx="733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buClr>
                <a:srgbClr val="010199"/>
              </a:buClr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قرار مكين المراد به المكان المتمكن من حماية النطفة وحفظها من الضياع والفساد والمقصود به رحم الا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705720" y="26398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هِين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029200" y="26557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ختلط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3124080" y="26398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ق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066680" y="2639880"/>
            <a:ext cx="1650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بار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94" name="" descr=""/>
          <p:cNvPicPr/>
          <p:nvPr/>
        </p:nvPicPr>
        <p:blipFill>
          <a:blip r:embed="rId3"/>
          <a:stretch/>
        </p:blipFill>
        <p:spPr>
          <a:xfrm>
            <a:off x="838080" y="1752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46" dur="indefinite" restart="never" nodeType="tmRoot">
          <p:childTnLst>
            <p:seq>
              <p:cTn id="4247" dur="indefinite" nodeType="mainSeq">
                <p:childTnLst>
                  <p:par>
                    <p:cTn id="4248" fill="hold">
                      <p:stCondLst>
                        <p:cond delay="0"/>
                      </p:stCondLst>
                      <p:childTnLst>
                        <p:par>
                          <p:cTn id="4249" fill="hold">
                            <p:stCondLst>
                              <p:cond delay="0"/>
                            </p:stCondLst>
                            <p:childTnLst>
                              <p:par>
                                <p:cTn id="42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2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54" dur="14054" fill="hold"/>
                                        <p:tgtEl>
                                          <p:spTgt spid="8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5" fill="hold">
                      <p:stCondLst>
                        <p:cond delay="indefinite"/>
                      </p:stCondLst>
                      <p:childTnLst>
                        <p:par>
                          <p:cTn id="4256" fill="hold">
                            <p:stCondLst>
                              <p:cond delay="0"/>
                            </p:stCondLst>
                            <p:childTnLst>
                              <p:par>
                                <p:cTn id="42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61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5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6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7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8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72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7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8" fill="hold">
                      <p:stCondLst>
                        <p:cond delay="indefinite"/>
                      </p:stCondLst>
                      <p:childTnLst>
                        <p:par>
                          <p:cTn id="4279" fill="hold">
                            <p:stCondLst>
                              <p:cond delay="0"/>
                            </p:stCondLst>
                            <p:childTnLst>
                              <p:par>
                                <p:cTn id="4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4" fill="hold">
                            <p:stCondLst>
                              <p:cond delay="0"/>
                            </p:stCondLst>
                            <p:childTnLst>
                              <p:par>
                                <p:cTn id="4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7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8" fill="hold">
                            <p:stCondLst>
                              <p:cond delay="500"/>
                            </p:stCondLst>
                            <p:childTnLst>
                              <p:par>
                                <p:cTn id="42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1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5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6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9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0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1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2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3" fill="hold">
                      <p:stCondLst>
                        <p:cond delay="indefinite"/>
                      </p:stCondLst>
                      <p:childTnLst>
                        <p:par>
                          <p:cTn id="4304" fill="hold">
                            <p:stCondLst>
                              <p:cond delay="0"/>
                            </p:stCondLst>
                            <p:childTnLst>
                              <p:par>
                                <p:cTn id="430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06" dur="1000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7" dur="1000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8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11" dur="1000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2" dur="1000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13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18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9" fill="hold">
                            <p:stCondLst>
                              <p:cond delay="1500"/>
                            </p:stCondLst>
                            <p:childTnLst>
                              <p:par>
                                <p:cTn id="43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2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3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27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8" fill="hold">
                            <p:stCondLst>
                              <p:cond delay="2500"/>
                            </p:stCondLst>
                            <p:childTnLst>
                              <p:par>
                                <p:cTn id="43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1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2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3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4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5" fill="hold">
                      <p:stCondLst>
                        <p:cond delay="indefinite"/>
                      </p:stCondLst>
                      <p:childTnLst>
                        <p:par>
                          <p:cTn id="4336" fill="hold">
                            <p:stCondLst>
                              <p:cond delay="0"/>
                            </p:stCondLst>
                            <p:childTnLst>
                              <p:par>
                                <p:cTn id="43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1" fill="hold">
                            <p:stCondLst>
                              <p:cond delay="0"/>
                            </p:stCondLst>
                            <p:childTnLst>
                              <p:par>
                                <p:cTn id="4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4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96" name=""/>
          <p:cNvSpPr/>
          <p:nvPr/>
        </p:nvSpPr>
        <p:spPr>
          <a:xfrm>
            <a:off x="533520" y="1828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لَمْ نَجْعَلِ الْأَرْض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ِفَات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086600" y="332568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ِفَات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181480" y="33256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وع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124080" y="3325680"/>
            <a:ext cx="16765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متوازنة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914400" y="332568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كن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7720" y="4459320"/>
            <a:ext cx="90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عنى إن الله سبحانه وتعالى جعل الأرض أوعية تجمع الأحياء والأموا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0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45" dur="indefinite" restart="never" nodeType="tmRoot">
          <p:childTnLst>
            <p:seq>
              <p:cTn id="4346" dur="indefinite" nodeType="mainSeq">
                <p:childTnLst>
                  <p:par>
                    <p:cTn id="4347" fill="hold">
                      <p:stCondLst>
                        <p:cond delay="0"/>
                      </p:stCondLst>
                      <p:childTnLst>
                        <p:par>
                          <p:cTn id="4348" fill="hold">
                            <p:stCondLst>
                              <p:cond delay="0"/>
                            </p:stCondLst>
                            <p:childTnLst>
                              <p:par>
                                <p:cTn id="434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53" dur="1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55" dur="4859" fill="hold"/>
                                        <p:tgtEl>
                                          <p:spTgt spid="9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6" fill="hold">
                      <p:stCondLst>
                        <p:cond delay="indefinite"/>
                      </p:stCondLst>
                      <p:childTnLst>
                        <p:par>
                          <p:cTn id="4357" fill="hold">
                            <p:stCondLst>
                              <p:cond delay="0"/>
                            </p:stCondLst>
                            <p:childTnLst>
                              <p:par>
                                <p:cTn id="43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0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1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2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6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7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8" fill="hold">
                            <p:stCondLst>
                              <p:cond delay="1500"/>
                            </p:stCondLst>
                            <p:childTnLst>
                              <p:par>
                                <p:cTn id="43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71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5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6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7" fill="hold">
                      <p:stCondLst>
                        <p:cond delay="indefinite"/>
                      </p:stCondLst>
                      <p:childTnLst>
                        <p:par>
                          <p:cTn id="4378" fill="hold">
                            <p:stCondLst>
                              <p:cond delay="0"/>
                            </p:stCondLst>
                            <p:childTnLst>
                              <p:par>
                                <p:cTn id="437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380" dur="80"/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1" dur="80"/>
                                        <p:tgtEl>
                                          <p:spTgt spid="8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2" dur="80"/>
                                        <p:tgtEl>
                                          <p:spTgt spid="8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38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385" dur="80"/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6" dur="80"/>
                                        <p:tgtEl>
                                          <p:spTgt spid="9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7" dur="80"/>
                                        <p:tgtEl>
                                          <p:spTgt spid="9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38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9" fill="hold">
                            <p:stCondLst>
                              <p:cond delay="320"/>
                            </p:stCondLst>
                            <p:childTnLst>
                              <p:par>
                                <p:cTn id="4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06" name=""/>
          <p:cNvSpPr/>
          <p:nvPr/>
        </p:nvSpPr>
        <p:spPr>
          <a:xfrm>
            <a:off x="533520" y="16002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جَعَلْنَا فِيهَا رَوَاسِي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شَامِخَاتٍ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سْقَيْنَاكُمْ مَاء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ُرَات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744960" y="3433680"/>
            <a:ext cx="1645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شَامِخَات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858000" y="44686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ُرَات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895480" y="3429000"/>
            <a:ext cx="1617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الي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4800600" y="343368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بيرات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838080" y="3429000"/>
            <a:ext cx="17528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متساوي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4800600" y="446868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ذ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895480" y="44686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بار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838080" y="44686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طي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1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93" dur="indefinite" restart="never" nodeType="tmRoot">
          <p:childTnLst>
            <p:seq>
              <p:cTn id="4394" dur="indefinite" nodeType="mainSeq">
                <p:childTnLst>
                  <p:par>
                    <p:cTn id="4395" fill="hold">
                      <p:stCondLst>
                        <p:cond delay="0"/>
                      </p:stCondLst>
                      <p:childTnLst>
                        <p:par>
                          <p:cTn id="4396" fill="hold">
                            <p:stCondLst>
                              <p:cond delay="0"/>
                            </p:stCondLst>
                            <p:childTnLst>
                              <p:par>
                                <p:cTn id="43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9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0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01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03" dur="14368" fill="hold"/>
                                        <p:tgtEl>
                                          <p:spTgt spid="9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4" fill="hold">
                      <p:stCondLst>
                        <p:cond delay="indefinite"/>
                      </p:stCondLst>
                      <p:childTnLst>
                        <p:par>
                          <p:cTn id="4405" fill="hold">
                            <p:stCondLst>
                              <p:cond delay="0"/>
                            </p:stCondLst>
                            <p:childTnLst>
                              <p:par>
                                <p:cTn id="4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8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4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2" dur="8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3" dur="8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4" dur="8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5" dur="8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8" fill="hold">
                            <p:stCondLst>
                              <p:cond delay="1500"/>
                            </p:stCondLst>
                            <p:childTnLst>
                              <p:par>
                                <p:cTn id="441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1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2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3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4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8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9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0" fill="hold">
                      <p:stCondLst>
                        <p:cond delay="indefinite"/>
                      </p:stCondLst>
                      <p:childTnLst>
                        <p:par>
                          <p:cTn id="4431" fill="hold">
                            <p:stCondLst>
                              <p:cond delay="0"/>
                            </p:stCondLst>
                            <p:childTnLst>
                              <p:par>
                                <p:cTn id="443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33" dur="1000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4" dur="1000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35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44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8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9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50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1" fill="hold">
                            <p:stCondLst>
                              <p:cond delay="3000"/>
                            </p:stCondLst>
                            <p:childTnLst>
                              <p:par>
                                <p:cTn id="445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7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2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7" dur="1000" fill="hold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5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6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9" dur="5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0" dur="5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1" fill="hold">
                      <p:stCondLst>
                        <p:cond delay="indefinite"/>
                      </p:stCondLst>
                      <p:childTnLst>
                        <p:par>
                          <p:cTn id="4482" fill="hold">
                            <p:stCondLst>
                              <p:cond delay="0"/>
                            </p:stCondLst>
                            <p:childTnLst>
                              <p:par>
                                <p:cTn id="4483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484" dur="8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5" dur="8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6" dur="8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48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489" dur="8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0" dur="8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1" dur="8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49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494" dur="80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5" dur="80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6" dur="80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49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499" dur="8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0" dur="8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1" dur="8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50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19" name=""/>
          <p:cNvSpPr/>
          <p:nvPr/>
        </p:nvSpPr>
        <p:spPr>
          <a:xfrm>
            <a:off x="609480" y="19810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هَا تَرْمِي بِشَرَر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الْقَصْر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629400" y="3554280"/>
            <a:ext cx="14050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الْقَصْر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362320" y="4348080"/>
            <a:ext cx="3608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جمر المتطا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362320" y="3554280"/>
            <a:ext cx="3619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حصى الكبي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362320" y="5181480"/>
            <a:ext cx="3581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بناء الضخ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2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03" dur="indefinite" restart="never" nodeType="tmRoot">
          <p:childTnLst>
            <p:seq>
              <p:cTn id="4504" dur="indefinite" nodeType="mainSeq">
                <p:childTnLst>
                  <p:par>
                    <p:cTn id="4505" fill="hold">
                      <p:stCondLst>
                        <p:cond delay="0"/>
                      </p:stCondLst>
                      <p:childTnLst>
                        <p:par>
                          <p:cTn id="4506" fill="hold">
                            <p:stCondLst>
                              <p:cond delay="0"/>
                            </p:stCondLst>
                            <p:childTnLst>
                              <p:par>
                                <p:cTn id="45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9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11" dur="6792" fill="hold"/>
                                        <p:tgtEl>
                                          <p:spTgt spid="9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2" fill="hold">
                      <p:stCondLst>
                        <p:cond delay="indefinite"/>
                      </p:stCondLst>
                      <p:childTnLst>
                        <p:par>
                          <p:cTn id="4513" fill="hold">
                            <p:stCondLst>
                              <p:cond delay="0"/>
                            </p:stCondLst>
                            <p:childTnLst>
                              <p:par>
                                <p:cTn id="45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6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7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8" fill="hold">
                            <p:stCondLst>
                              <p:cond delay="500"/>
                            </p:stCondLst>
                            <p:childTnLst>
                              <p:par>
                                <p:cTn id="451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1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2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3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4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28" dur="80"/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29" dur="80"/>
                                        <p:tgtEl>
                                          <p:spTgt spid="9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0" dur="80"/>
                                        <p:tgtEl>
                                          <p:spTgt spid="9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1" fill="hold">
                            <p:stCondLst>
                              <p:cond delay="1600"/>
                            </p:stCondLst>
                            <p:childTnLst>
                              <p:par>
                                <p:cTn id="453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3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7" fill="hold">
                      <p:stCondLst>
                        <p:cond delay="indefinite"/>
                      </p:stCondLst>
                      <p:childTnLst>
                        <p:par>
                          <p:cTn id="4538" fill="hold">
                            <p:stCondLst>
                              <p:cond delay="0"/>
                            </p:stCondLst>
                            <p:childTnLst>
                              <p:par>
                                <p:cTn id="45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1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838080" y="16002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هَمَّازٍ مَشَّاءٍ بِنَمِيم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010280" y="2514600"/>
            <a:ext cx="1173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هَمَّازٍ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86600" y="4724280"/>
            <a:ext cx="10652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ِنَمِيم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86600" y="3962520"/>
            <a:ext cx="10987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شَّاءٍ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06720" y="2514600"/>
            <a:ext cx="164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يَّا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4724280"/>
            <a:ext cx="15368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نقل الحدي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952880" y="3962520"/>
            <a:ext cx="1581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سع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52880" y="2514600"/>
            <a:ext cx="1575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شكك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2514600"/>
            <a:ext cx="1519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مستهز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71800" y="39672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ساف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3962520"/>
            <a:ext cx="1567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تنق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4724280"/>
            <a:ext cx="16765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قول الز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52880" y="4724280"/>
            <a:ext cx="16290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نقل الكذ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01960" y="3276720"/>
            <a:ext cx="65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هماز معناه من يشير إلى عيوب الناس ويطعن فيه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760" y="5486400"/>
            <a:ext cx="90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مشاء بنميم أي الشخص الذي يمشي بين الناس بإيجاد الإفساد والفرق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4419720" y="2057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8" dur="7837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500"/>
                            </p:stCondLst>
                            <p:childTnLst>
                              <p:par>
                                <p:cTn id="3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5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500"/>
                            </p:stCondLst>
                            <p:childTnLst>
                              <p:par>
                                <p:cTn id="4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4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380880" y="16002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كَأَنَّهُ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جمَالةٌ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صُفْر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934320" y="31734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جمَالةٌ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934320" y="41958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صُفْر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3048120" y="317340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ما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105520" y="31734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دواب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1066680" y="31734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خي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5105520" y="4195800"/>
            <a:ext cx="1600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ونه اصف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048120" y="4191120"/>
            <a:ext cx="1650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خائف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066680" y="41958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ئ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3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43" dur="indefinite" restart="never" nodeType="tmRoot">
          <p:childTnLst>
            <p:seq>
              <p:cTn id="4544" dur="indefinite" nodeType="mainSeq">
                <p:childTnLst>
                  <p:par>
                    <p:cTn id="4545" fill="hold">
                      <p:stCondLst>
                        <p:cond delay="0"/>
                      </p:stCondLst>
                      <p:childTnLst>
                        <p:par>
                          <p:cTn id="4546" fill="hold">
                            <p:stCondLst>
                              <p:cond delay="0"/>
                            </p:stCondLst>
                            <p:childTnLst>
                              <p:par>
                                <p:cTn id="454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2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58" dur="5225" fill="hold"/>
                                        <p:tgtEl>
                                          <p:spTgt spid="9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9" fill="hold">
                      <p:stCondLst>
                        <p:cond delay="indefinite"/>
                      </p:stCondLst>
                      <p:childTnLst>
                        <p:par>
                          <p:cTn id="4560" fill="hold">
                            <p:stCondLst>
                              <p:cond delay="0"/>
                            </p:stCondLst>
                            <p:childTnLst>
                              <p:par>
                                <p:cTn id="45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3" dur="8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4" dur="8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5" dur="8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6" dur="8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2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3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4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7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9" fill="hold">
                            <p:stCondLst>
                              <p:cond delay="2500"/>
                            </p:stCondLst>
                            <p:childTnLst>
                              <p:par>
                                <p:cTn id="4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2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3" fill="hold">
                      <p:stCondLst>
                        <p:cond delay="indefinite"/>
                      </p:stCondLst>
                      <p:childTnLst>
                        <p:par>
                          <p:cTn id="4584" fill="hold">
                            <p:stCondLst>
                              <p:cond delay="0"/>
                            </p:stCondLst>
                            <p:childTnLst>
                              <p:par>
                                <p:cTn id="458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86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89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1" fill="hold">
                            <p:stCondLst>
                              <p:cond delay="500"/>
                            </p:stCondLst>
                            <p:childTnLst>
                              <p:par>
                                <p:cTn id="459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4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5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6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7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1" dur="8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2" dur="8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3" dur="8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4" dur="8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8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12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3" fill="hold">
                            <p:stCondLst>
                              <p:cond delay="3000"/>
                            </p:stCondLst>
                            <p:childTnLst>
                              <p:par>
                                <p:cTn id="4614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6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7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18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9" fill="hold">
                      <p:stCondLst>
                        <p:cond delay="indefinite"/>
                      </p:stCondLst>
                      <p:childTnLst>
                        <p:par>
                          <p:cTn id="4620" fill="hold">
                            <p:stCondLst>
                              <p:cond delay="0"/>
                            </p:stCondLst>
                            <p:childTnLst>
                              <p:par>
                                <p:cTn id="462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622" dur="8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3" dur="8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4" dur="8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62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627" dur="8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8" dur="8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9" dur="8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63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33520" y="1600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ُتُلّ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بَعْدَ ذَلِك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زَنِيم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0" y="3276720"/>
            <a:ext cx="1378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ُتُلّ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0" y="4267080"/>
            <a:ext cx="139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زَنِيم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24280" y="3276720"/>
            <a:ext cx="1833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ظ غلي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327672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ظالم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02560" y="3276720"/>
            <a:ext cx="2161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عيد عن الخ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4267080"/>
            <a:ext cx="1801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ا أصل ل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4267080"/>
            <a:ext cx="181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فر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43200" y="4267080"/>
            <a:ext cx="1730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ظالم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4419720" y="2819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5" dur="5120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780"/>
                            </p:stCondLst>
                            <p:childTnLst>
                              <p:par>
                                <p:cTn id="4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280"/>
                            </p:stCondLst>
                            <p:childTnLst>
                              <p:par>
                                <p:cTn id="4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780"/>
                            </p:stCondLst>
                            <p:childTnLst>
                              <p:par>
                                <p:cTn id="5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8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500"/>
                            </p:stCondLst>
                            <p:childTnLst>
                              <p:par>
                                <p:cTn id="5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2000"/>
                            </p:stCondLst>
                            <p:childTnLst>
                              <p:par>
                                <p:cTn id="5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7:48:09Z</dcterms:created>
  <dc:creator/>
  <dc:description/>
  <dc:language>en-US</dc:language>
  <cp:lastModifiedBy>ALI</cp:lastModifiedBy>
  <dcterms:modified xsi:type="dcterms:W3CDTF">2008-09-21T07:17:00Z</dcterms:modified>
  <cp:revision>8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